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9360" cy="37195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480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dt" idx="37"/>
          </p:nvPr>
        </p:nvSpPr>
        <p:spPr>
          <a:xfrm>
            <a:off x="3846240" y="-360"/>
            <a:ext cx="29480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9429480"/>
            <a:ext cx="29480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46240" y="9429480"/>
            <a:ext cx="29480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42271-724D-431D-B506-10392DD161CE}" type="slidenum">
              <a:rPr b="0" lang="cs-CZ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46600" y="9429840"/>
            <a:ext cx="2948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919A0-EF74-4E94-A90C-13C86675DD58}" type="slidenum">
              <a:rPr b="0" lang="cs-CZ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Zástupný symbol pro číslo snímku 3"/>
          <p:cNvSpPr/>
          <p:nvPr/>
        </p:nvSpPr>
        <p:spPr>
          <a:xfrm>
            <a:off x="3846600" y="9429840"/>
            <a:ext cx="2948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198AC-0DB1-473D-B1BE-8955DC1A5A35}" type="slidenum">
              <a:rPr b="0" lang="cs-CZ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D51-A2B8-4A6D-BA0A-D4F1D466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216-D4F3-46E3-A8EE-FCEBA201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C76F5-14BC-4754-877D-C2D56BED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5A0FA-146E-4BE6-AFE8-0CF5F957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434B7-15F2-460E-B7B4-1CC215EA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DD447-5E70-4D84-B6A0-86E54B93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1766E-C545-474E-9905-01ED179D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6F644-F85C-4EEC-8A06-43A4ED59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D8BC8-CA22-4558-B8EE-0318D13A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7266E-5087-47C0-923F-6C9DF6F0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DDC93-1CCE-409E-AD0E-0078BF61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3D1FA-8086-482A-8205-B0EFFEA7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3D75-0474-4ABC-810F-F0C59BEC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DB1C5-E11B-4482-A4B1-9E83A6D6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FF9A6-0764-4E3C-8DAB-7D0E7809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9700A-0ABD-4004-AE89-D3E8609B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D21F0-4251-43CC-8269-A73225EE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A66CD-65F1-486F-B66C-2EA9804C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E5526-4F07-4FA5-8802-F9828AF1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A538B-394D-4076-93E6-A030209F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FFF39-EF2A-457C-AEB1-44E85919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94577-27D0-4DF2-A418-3B79A0C4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72302-49CB-43F6-BA96-462ABECE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C48-BE94-4C45-9B6F-C4F9B3E3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226CF-1FAC-4ACF-A09F-5D03FC1C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4E18C-4447-4469-829A-28668577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90DFE-73AA-469F-9BE0-EE6DB740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1BE37-74A6-480E-8905-B12B8191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1872C-AEB1-49A4-B959-85909A1C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019F9-2923-4D0C-8682-8A679A53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CB8BA-538D-47B7-8DDF-E89C3888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98CB3-B38E-4903-894B-9D969126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7D7E0-0B07-4C61-8360-D49EE06C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95C6A-0813-49DD-90A5-FB898F3F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02FD-5A22-45BF-8FA4-7AB8BA7D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D3258-0511-416E-AF26-14990578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174BD-9AE1-4E31-9F63-E382CDCF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42C71-C481-4357-8E63-9DAF64B4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469B5-001F-4D42-8DE3-70D43338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0CEE8-F796-432E-A544-1D198290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FFBA4-7C5F-44E6-A89A-9D9ADE36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2B759-450F-433E-B2BC-104CA88F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36001-1FBD-4B03-AECA-3029F6EF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F6FBF-59F6-4027-A97D-D0C741A6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6D2A4-076C-423F-9300-BE068EF9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0076-55E1-4681-A06D-E079464F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1449E-021A-434D-846D-1563C835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F16D8-5500-48EB-BF7F-5CA1EE24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41290-97BB-4E3E-9AF4-E4D6CA89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0A68B-D79F-4ADC-8D50-93488070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6FCC8-1690-48F7-8F2D-C7DE8EF0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2477-B0FC-4CA1-A80F-258EAB85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8642-F9C3-4DC0-8C02-996657E7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C449-A32B-454A-A7A5-2B08C2B4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38F7-0EB9-4F9D-B05C-75C85C5C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5399-33C4-44CC-AE40-31614F55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AEC0-43DA-4732-8E44-F152E0E3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C88A-0074-4508-B492-93E063C5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2F75-8056-49A5-A8D2-25641217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9451-CA1D-42DB-9E65-367848B2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5BB7-CD02-4270-8A33-3BF6E673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D699-E7AA-4088-B9F4-31336BF6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A4FEC-BDC0-4E7F-89C1-6628A0CA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6F7D2-E171-48D1-BD2F-1EB76A79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7F1B8-4BE4-4951-8A79-90F7A92F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73808-E5C5-40F6-A624-7EEC1CE9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BC87E-8C82-468D-A4E2-D130E56C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DD2-30AC-41FE-80B0-79BE29E6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BA7BC-90C8-4937-9471-F3743E53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D0524-6F9C-4C10-A4B1-16ABD360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E0F54-91F2-465E-BF9B-BB7E881B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BAAE7-5409-471B-AC9B-1AD73492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4DED5-8B31-4C09-8D4A-BFC13FF7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363AF-379F-45A2-B9D5-AF5C5172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BAABD-F7AB-43E6-BD60-245E1389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9BF87-37F4-4974-BC31-5FC37B7A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787E6-E705-4F9E-96F8-4CEC4A8A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DD10B-3FC6-4F27-B278-3F87CCD6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FC4-14A6-4E74-9254-0C91B90C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201B8-898A-4A60-A371-C68E312C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03B64-72A2-4A9F-8182-E7F81E08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C0FD5-A407-4581-888B-7FF27F00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9FAFC-70BB-4419-8E01-4A664B7F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FB8A0-7FC9-4FDE-810F-5166A7F5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C9754-8255-4A48-BB48-F2AD5BB8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95438-FC44-43B6-8A37-AFD45E63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5024A-C686-411B-8E9D-8332A4DA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D1160-C07A-4C99-AE23-6D8E5937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A7862-E62B-4149-8DEE-5803D493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361-DDCE-427A-9A06-2953E17F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5370A-EA7C-4A21-A8C3-972FF149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6405E-D999-40B0-896F-4D16AC8D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4A47C-5473-4D1E-B00D-6D9789ED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2A2F2-AF85-47F1-9E73-65A4F31A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4AC75-AA56-4991-85B9-55382D5D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D189F-B76C-49C1-BC50-F7F0CA7F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06AD7-F49A-4E7D-BC46-04F2CCBA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E095F-7263-498E-8C0A-F8C37E44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C494A-D6F9-4099-9CD8-D75E8E84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22C9D-7580-41ED-839A-964CE686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AC1-68C0-4C88-A28C-AB42A57A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D2BCC-231F-4BF7-A3CC-AD4401BF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FC4A1-ECAF-46FB-BCE7-092950F7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EE6A4-0771-49E9-AAA8-E0FB3BFB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CB640-3F2A-43AF-BF39-B2D8E79E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4B01E-3184-4930-B11B-CBC1981B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F8102-99F7-4A8F-A58A-B3A60ED6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4C0C3-33CA-4199-B093-DD0B4B93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E1676-E457-48C8-BB21-031C513E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B3FD9-A43E-41F9-8557-2B3966E0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0B0E3-5291-4851-AE1E-4262C239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8599-DBD7-4540-AEDF-CC5CF963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ABD54-25FA-4175-9CE0-22774B3B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1A7E1-2E0A-477A-9951-35C01FCF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80D10-D2AF-4AC5-87B9-689D10C6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AAA7A-4B55-42EE-A61B-3C498AA8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599AE-12C0-4CB3-91C7-8401493C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8B504-F69B-4EEF-91D7-33DFB96A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DE829-B58F-443D-8E59-47E7718A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3CEDF-C0E1-4D8E-BCB0-93EB68C4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C30DD-8D5A-4D20-9F01-DFEA483B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CE9E5-3FD5-4AD0-BB61-AF2C9D66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00B-46E8-4B59-98DD-CEC63EAB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B18A7-CA88-4AA2-9312-A602CEAC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283B7-4141-4EE3-BB78-CF9CF9C7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2610C-6769-4DE4-8DDE-D754B2B8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01AE4-2A62-48CC-B9D6-AC971B6A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FE540-650E-483A-BD1D-09D6FCF6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F263D-0DF7-4676-9105-B5B9C2DC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DFADF-29EC-4339-A713-B2848D41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04862-CB95-4748-8751-C003465A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D8030-9B78-442A-B5AD-CC444603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0C556-73D0-4F5D-B07A-45115386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B4B-056D-4B7E-B435-E4EF9935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8417F-8071-40F5-9326-FF5F99FC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9944D-F8C8-49C6-B504-D633ED25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AD17C-B578-40B7-BD43-D764F857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5E344-C981-4214-AFC9-00A6C592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DE373-43C5-409B-9743-2A8DC909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40614-F3DA-439F-8EAD-2FAAA1DC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D726F-FABB-44AB-8F1C-76584ADF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87A35-11B8-4844-889C-3D884C15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39B0D-7559-40DD-B0F4-39FAD0A7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5161D-0019-4B11-8E14-02AA84F6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38C48E-6A21-46B1-BFBF-99A1FACC3CB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74D95D-B015-4111-BCFF-57C7F1A7134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6CC420-6CF0-4D97-8654-B4279F19C91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65A7A3-5B25-4A1E-8ED6-D91E78935C0A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8BBE10-5068-4E80-9F8B-6DEFC5F880D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8BCE2F-3502-4A6D-82C9-713AE9EE4CD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057DE2-444E-47A6-8D75-0716243E3B9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FE3170-EDAF-48FF-861D-24223955548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C9058E-6D58-4DED-BFAA-83FEB379328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ADA4E2-7C8F-49B7-B292-D2927C02E55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B37BD5-40E7-4E06-961B-A33007DFEE1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0607A1-E681-4EE7-9100-73D3969ED12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D44C56-FE1F-40DF-A24F-B81D29ACE16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ovéPole 1"/>
          <p:cNvSpPr/>
          <p:nvPr/>
        </p:nvSpPr>
        <p:spPr>
          <a:xfrm>
            <a:off x="287280" y="140328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DejaVu Sans"/>
              </a:rPr>
              <a:t>Návrh novely zákoníku práce předložený vlád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ovéPole 2"/>
          <p:cNvSpPr/>
          <p:nvPr/>
        </p:nvSpPr>
        <p:spPr>
          <a:xfrm>
            <a:off x="216000" y="4932360"/>
            <a:ext cx="964872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Svaz průmyslu a dopravy Č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souhlasil s návrhem novely zákoníku prá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anovisko ze dne 31. března 201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Doporučení k předloženým </a:t>
            </a:r>
            <a:br>
              <a:rPr sz="4400"/>
            </a:b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variantním návrhům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03280" y="2195640"/>
            <a:ext cx="9067680" cy="45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racovní poměr na dobu určitou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Calibri"/>
              </a:rPr>
              <a:t>Navrženy dvě Varianty – nesouhla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Calibri"/>
              </a:rPr>
              <a:t>Požadujeme zachování současné právní úpravy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Calibri"/>
              </a:rPr>
              <a:t>Obě Varianty jsou v rozporu s požadavkem na větší flexibilitu pracovněprávních vztahů, proti požadavkům praxe, zejména Varianta I. s 15-letým obdobím pro započítávání řetězení není života schopná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TextovéPole 4"/>
          <p:cNvSpPr/>
          <p:nvPr/>
        </p:nvSpPr>
        <p:spPr>
          <a:xfrm>
            <a:off x="4788000" y="6948360"/>
            <a:ext cx="50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3084B4-21D2-4D6C-95D3-15A8DDDF56DD}" type="slidenum">
              <a:rPr b="0" lang="cs-CZ" sz="18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Doporučení k předloženým </a:t>
            </a:r>
            <a:br>
              <a:rPr sz="4400"/>
            </a:b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variantním návrhům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503280" y="2195640"/>
            <a:ext cx="9067680" cy="45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Nad rámec návrhu novely požadujeme řeši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Calibri"/>
              </a:rPr>
              <a:t>Konto pracovní doby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Calibri"/>
              </a:rPr>
              <a:t>– dlouhodobý požadavek zejména automobilového průmyslu, proto pokračovat na věcném řešení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Calibri"/>
              </a:rPr>
              <a:t>Kurzarbei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Calibri"/>
              </a:rPr>
              <a:t> – společný požadavek s odbory, vrátit se k návrhům  z loňského roku, které byly připraveny VÚPSV, podklady dodány od zaměstnavatelů i odborů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TextovéPole 4"/>
          <p:cNvSpPr/>
          <p:nvPr/>
        </p:nvSpPr>
        <p:spPr>
          <a:xfrm>
            <a:off x="4824360" y="7020000"/>
            <a:ext cx="432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C7AD09-EFFE-4304-BB37-ECC6C6D070F4}" type="slidenum">
              <a:rPr b="0" lang="cs-CZ" sz="18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Obdélník 1"/>
          <p:cNvSpPr/>
          <p:nvPr/>
        </p:nvSpPr>
        <p:spPr>
          <a:xfrm>
            <a:off x="611280" y="3708360"/>
            <a:ext cx="8858160" cy="2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DejaVu Sans"/>
              </a:rPr>
              <a:t>Děkuji za pozorno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Obrázek 5" descr="sp_n.png"/>
          <p:cNvPicPr/>
          <p:nvPr/>
        </p:nvPicPr>
        <p:blipFill>
          <a:blip r:embed="rId1"/>
          <a:srcRect l="6650" t="0" r="0" b="19644"/>
          <a:stretch/>
        </p:blipFill>
        <p:spPr>
          <a:xfrm>
            <a:off x="3468600" y="1351080"/>
            <a:ext cx="3006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 u="sng">
                <a:solidFill>
                  <a:srgbClr val="333333"/>
                </a:solidFill>
                <a:uFillTx/>
                <a:latin typeface="Calibri"/>
                <a:ea typeface="Calibri"/>
              </a:rPr>
              <a:t>SP ČR k návrhu novely zákoníku práce 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506520" y="1765080"/>
            <a:ext cx="9067680" cy="40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ávrh novely zákoníku práce obsahuje řadu úprav, které jsme dlouhodobě požadovali a které rovněž vycházely i z tzv. RIA provedené v prosinci loňského roku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čet základních institutů, které byly členskou základnou dlouhodobě požadovány, jsou v návrhu obsaženy (popřípadě jejich řešení nebylo uzavřeno)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TextovéPole 5"/>
          <p:cNvSpPr/>
          <p:nvPr/>
        </p:nvSpPr>
        <p:spPr>
          <a:xfrm>
            <a:off x="4896000" y="6948360"/>
            <a:ext cx="288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18ED85-FA66-4B66-9D20-E27195317D41}" type="slidenum">
              <a:rPr b="0" lang="cs-CZ" sz="18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Úpravy požadované zaměstnavateli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4240" indent="-53496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novuzavedení institutu dočasného přiděle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aměstnance – souhla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714240" indent="-53496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loužení zkušební dob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ro vedoucí zaměstnance na 6 měsíců (ústup od kategorie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zv. klíčových zaměstnanců) – souhlas.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714240" indent="-53496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racovněprávní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pecifika vedoucích zaměstnanců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 úpravy ve mzdách (maximální rozsah přesčasové práce) – souhlas.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714240" indent="-53496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714240" indent="-53496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TextovéPole 5"/>
          <p:cNvSpPr/>
          <p:nvPr/>
        </p:nvSpPr>
        <p:spPr>
          <a:xfrm>
            <a:off x="4896000" y="7020000"/>
            <a:ext cx="288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77EB9A-732F-452D-A87E-87F3CF057B7A}" type="slidenum">
              <a:rPr b="0" lang="cs-CZ" sz="18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Úpravy požadované zaměstnavateli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4240" indent="-7142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Zjednodušení výpovědních důvodů při výpovědi ze strany zaměstnavatele -  bylo z původního návrhu novely vypuštěno, akceptace.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Nový výpovědní důvod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, který zohledňuje neopodstatněné ekonomické zatížení zaměstnavatelů v souvislosti se zneužíváním poskytování náhrady mzdy v době nemoci zaměstnance – souhlas.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Snížení minimální výše odstupného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ve vazbě na dobu trvání pracovního poměru – souhlas.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714240" indent="-7142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714240" indent="-71424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TextovéPole 5"/>
          <p:cNvSpPr/>
          <p:nvPr/>
        </p:nvSpPr>
        <p:spPr>
          <a:xfrm>
            <a:off x="4896000" y="7020000"/>
            <a:ext cx="288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545168-84F8-4880-87CB-B2A37D93B152}" type="slidenum">
              <a:rPr b="0" lang="cs-CZ" sz="18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Úpravy požadované zaměstnavateli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4240" indent="-714240">
              <a:lnSpc>
                <a:spcPct val="104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měny v úpravě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chodu práv a povinnost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 pracovněprávních vztahů – zejména požadavek nadnárodních společností – souhla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Rozšíření možnosti výplaty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zdy v zahraniční měně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souhlas.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zv.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oderační právo soud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umožňující soudu v řízení o neplatnosti skončení pracovního poměru snížit přiměřeně výši náhrady mzdy – souhla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714240" indent="-7142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714240" indent="-71424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TextovéPole 4"/>
          <p:cNvSpPr/>
          <p:nvPr/>
        </p:nvSpPr>
        <p:spPr>
          <a:xfrm>
            <a:off x="4896000" y="7020000"/>
            <a:ext cx="288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00F8E0-76D0-4825-814D-28CEF1955ED8}" type="slidenum">
              <a:rPr b="0" lang="cs-CZ" sz="18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Úpravy požadované zaměstnavateli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503280" y="2195640"/>
            <a:ext cx="9067680" cy="45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23880" indent="-623880">
              <a:lnSpc>
                <a:spcPct val="104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Jiná překážka v práci na straně zaměstnavatel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možnost snížení náhrady mzdy na 60 % nejen v kolektivní smlouvě, ale i vnitřním předpisem a zrušení rozhodování úřadů práce znamená zjednodušení a odstranění rozdílů mezi zaměstnavateli ve vazbě na působení odborové organizace – souhlas.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23880" indent="-6238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23880" indent="-62388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TextovéPole 4"/>
          <p:cNvSpPr/>
          <p:nvPr/>
        </p:nvSpPr>
        <p:spPr>
          <a:xfrm>
            <a:off x="4861080" y="7020000"/>
            <a:ext cx="3585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F070C1-9AE6-4F9B-AB40-DA45C281177D}" type="slidenum">
              <a:rPr b="0" lang="cs-CZ" sz="18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Úpravy požadované zaměstnavateli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503280" y="1979640"/>
            <a:ext cx="90676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23880" indent="-6238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loužení doby výkonu práce na základě dohody o provedení prác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e 150 na 300 hodin, které by mělo být „kompenzováno“jejich „zpojistněním“ – zásadně nesouhlas, zmařil by se ekonomický smysl a význam využívání dohod o provedení práce jako jediné flexibilní formy pracovněprávních vztahů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23880" indent="-6238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23880" indent="-6238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23880" indent="-62388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9" name="TextovéPole 4"/>
          <p:cNvSpPr/>
          <p:nvPr/>
        </p:nvSpPr>
        <p:spPr>
          <a:xfrm>
            <a:off x="4896000" y="7020000"/>
            <a:ext cx="288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4EC81A-54B5-4A9C-9EBD-57D8B794BE87}" type="slidenum">
              <a:rPr b="0" lang="cs-CZ" sz="18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Úpravy požadované zaměstnavateli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03280" y="2266920"/>
            <a:ext cx="9067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6400" indent="-536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urenční doložka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zapracován náš požadavek k možnosti odstoupení, souhlas s omezením konkurenční doložky nejdéle na jeden rok při zachování minimální kompenzace poloviny průměrného výdělku za každý měsíc plnění závazku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36400" indent="-5364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36400" indent="-53640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TextovéPole 4"/>
          <p:cNvSpPr/>
          <p:nvPr/>
        </p:nvSpPr>
        <p:spPr>
          <a:xfrm>
            <a:off x="4896000" y="6948360"/>
            <a:ext cx="288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3FD12B-5781-47C6-A817-A2537EEB2583}" type="slidenum">
              <a:rPr b="0" lang="cs-CZ" sz="18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Doporučení k předloženým </a:t>
            </a:r>
            <a:br>
              <a:rPr sz="4400"/>
            </a:b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variantním návrhům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03280" y="2195640"/>
            <a:ext cx="9067680" cy="45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104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eplatnost právních úkonů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vrhujeme  novou Variantu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chování relativní neplatnosti právních úkonů v případě absolutní neplatnosti pro nedostatek formy – viz písemná forma PS, DPČ, DPP i – možnost zhojit, tj. vypustit odst. 2 v § 20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TextovéPole 4"/>
          <p:cNvSpPr/>
          <p:nvPr/>
        </p:nvSpPr>
        <p:spPr>
          <a:xfrm>
            <a:off x="4896000" y="7020000"/>
            <a:ext cx="288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46F3C6-D656-4E7F-B0D4-7FAD70832917}" type="slidenum">
              <a:rPr b="0" lang="cs-CZ" sz="18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12:09:37Z</dcterms:created>
  <dc:creator>Jezkova Petra</dc:creator>
  <dc:description/>
  <dc:language>en-US</dc:language>
  <cp:lastModifiedBy>Jitka Hejdukova</cp:lastModifiedBy>
  <dcterms:modified xsi:type="dcterms:W3CDTF">2011-06-15T16:36:35Z</dcterms:modified>
  <cp:revision>42</cp:revision>
  <dc:subject/>
  <dc:title>Snímek 1</dc:title>
</cp:coreProperties>
</file>