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711-BA63-4C34-9216-F5CE0BE0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D2A-BA5C-4D4D-86B5-1441C8F8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C64-D12C-4648-9DB9-72DF5B62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3B9-99C2-41AC-8415-7EF3998B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2F4-9BE9-4A73-AFF6-5496977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C25-14DC-41FE-A0BE-6B5A690A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BB7-03B4-4E90-AA42-A7014F3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93D-CD1E-4B67-9CCD-1B78F4BB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CBB-3D0E-4335-AC1E-3108B634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04E-03BA-4D4F-B417-EADB715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FDA-48C2-4C9E-9BB2-F85022C4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A60-B8D0-47F7-BFDC-EEA95A7D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F823-B5F2-49C8-A4A8-64EA5058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9144000" cy="4506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cs-CZ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Důchodová reforma ČMKOS</a:t>
            </a:r>
            <a:br>
              <a:rPr sz="800"/>
            </a:br>
            <a:r>
              <a:rPr b="1" i="1" lang="cs-CZ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Rada hospodářské a sociální dohody</a:t>
            </a:r>
            <a:br>
              <a:rPr sz="32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Praha,</a:t>
            </a:r>
            <a:r>
              <a:rPr b="0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Úřad vlády ČR </a:t>
            </a:r>
            <a:br>
              <a:rPr sz="3200"/>
            </a:br>
            <a:r>
              <a:rPr b="1" lang="cs-CZ" sz="2800" spc="-1" strike="noStrike">
                <a:solidFill>
                  <a:srgbClr val="7fb9dd"/>
                </a:solidFill>
                <a:latin typeface="Arial"/>
                <a:ea typeface="Times New Roman"/>
              </a:rPr>
              <a:t>JUDr. Vít Samek</a:t>
            </a:r>
            <a:br>
              <a:rPr sz="2800"/>
            </a:br>
            <a:r>
              <a:rPr b="1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13. ledna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4200" y="-1440"/>
            <a:ext cx="82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trategie celoživotního investování důchodových ú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nguard Life-Cycle Funds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907920"/>
          <a:ext cx="990108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108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I. pilíř poskytuje přiměřené a finančně udržitelné důchody většině obyva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8360" y="3933720"/>
            <a:ext cx="5291280" cy="946080"/>
          </a:xfrm>
          <a:custGeom>
            <a:avLst/>
            <a:gdLst/>
            <a:ahLst/>
            <a:rect l="l" t="t" r="r" b="b"/>
            <a:pathLst>
              <a:path w="3333" h="596">
                <a:moveTo>
                  <a:pt x="0" y="0"/>
                </a:moveTo>
                <a:cubicBezTo>
                  <a:pt x="238" y="79"/>
                  <a:pt x="476" y="158"/>
                  <a:pt x="725" y="226"/>
                </a:cubicBezTo>
                <a:cubicBezTo>
                  <a:pt x="974" y="294"/>
                  <a:pt x="1210" y="355"/>
                  <a:pt x="1497" y="408"/>
                </a:cubicBezTo>
                <a:cubicBezTo>
                  <a:pt x="1784" y="461"/>
                  <a:pt x="2162" y="514"/>
                  <a:pt x="2449" y="544"/>
                </a:cubicBezTo>
                <a:cubicBezTo>
                  <a:pt x="2736" y="574"/>
                  <a:pt x="3107" y="582"/>
                  <a:pt x="3220" y="589"/>
                </a:cubicBezTo>
                <a:cubicBezTo>
                  <a:pt x="3333" y="596"/>
                  <a:pt x="3136" y="589"/>
                  <a:pt x="3129" y="589"/>
                </a:cubicBezTo>
                <a:cubicBezTo>
                  <a:pt x="3122" y="589"/>
                  <a:pt x="3148" y="589"/>
                  <a:pt x="3175" y="58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enzijní reforma ČMKOS</a:t>
            </a:r>
            <a:r>
              <a:rPr b="1" lang="cs-CZ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a její</a:t>
            </a:r>
            <a:r>
              <a:rPr b="1" lang="cs-CZ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porovnání s I. variantou</a:t>
            </a:r>
            <a:r>
              <a:rPr b="0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Bezděkovy k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4360" y="2637000"/>
          <a:ext cx="4024080" cy="24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37000"/>
                    <a:ext cx="402408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917720" y="1776240"/>
            <a:ext cx="38512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05360"/>
            <a:ext cx="4321440" cy="2663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ůběžně financova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důchodové pojištěn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ováděné ČSSZ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20% pojistné + 5%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3357720"/>
            <a:ext cx="4248360" cy="33112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ůběžně financova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důchodové pojištěn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ováděné ČSSZ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pojist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28%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141720"/>
            <a:ext cx="4321440" cy="64764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vinné důch. spoření v nových P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(vedení IÚ: ČSSZ)  pojistné:  3 +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4321440" cy="50472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obrovolné spoření v reformovaných PF        (bez podpory stá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916280"/>
            <a:ext cx="4248360" cy="129672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brovolné důchodové spoření        v reformovaných P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jistné (1 až 3 % stát) + (3% až 9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1341360"/>
            <a:ext cx="4248360" cy="57492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Povinné zaměstnanecké důchodové                            spoření v reform. PF (riziková povol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aldo důchodového systému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(0,I. varianta Bezděkovy komise, ČMK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4080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8924760" cy="5639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Náhradový pomě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(0,I. varianta Bezděkovy komise, ČMK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Penzijní připojištění vyžaduje refor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692280"/>
          <a:ext cx="9144000" cy="61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00"/>
                </a:solidFill>
                <a:latin typeface="Arial"/>
                <a:ea typeface="Times New Roman"/>
              </a:rPr>
              <a:t>Stárnutí je problémem i pro soukromé důchody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ena „soukromé“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životní penze v měsíční výši 10 000 Kč -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v mil. K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052640"/>
          <a:ext cx="8785440" cy="5544720"/>
        </p:xfrm>
        <a:graphic>
          <a:graphicData uri="http://schemas.openxmlformats.org/drawingml/2006/table">
            <a:tbl>
              <a:tblPr/>
              <a:tblGrid>
                <a:gridCol w="373320"/>
                <a:gridCol w="742680"/>
                <a:gridCol w="595440"/>
                <a:gridCol w="593640"/>
                <a:gridCol w="631800"/>
                <a:gridCol w="647640"/>
                <a:gridCol w="650880"/>
                <a:gridCol w="648000"/>
                <a:gridCol w="652320"/>
                <a:gridCol w="649440"/>
                <a:gridCol w="650880"/>
                <a:gridCol w="649080"/>
                <a:gridCol w="650880"/>
                <a:gridCol w="649440"/>
              </a:tblGrid>
              <a:tr h="618120">
                <a:tc gridSpan="2"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Věk v ro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4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Pojišťo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Mu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Ž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6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Mu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Ž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Mu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Ž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opady krize na individuální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enzijní úspory v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DC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ichael Cic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Social Security Department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fr-CH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eneva,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květen</a:t>
            </a:r>
            <a:r>
              <a:rPr b="1" i="1" lang="fr-CH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Arial"/>
              </a:rPr>
              <a:t>Rizika soukromých penzijních systémů</a:t>
            </a:r>
            <a:br>
              <a:rPr sz="3400"/>
            </a:b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usan Mangiero</a:t>
            </a: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 Investment Governance, Inc</a:t>
            </a: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03280" y="400536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544500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2:41:59Z</dcterms:created>
  <dc:creator>Customer</dc:creator>
  <dc:description/>
  <dc:language>en-US</dc:language>
  <cp:lastModifiedBy>Customer</cp:lastModifiedBy>
  <dcterms:modified xsi:type="dcterms:W3CDTF">2011-01-10T13:36:10Z</dcterms:modified>
  <cp:revision>6</cp:revision>
  <dc:subject/>
  <dc:title>Penzijní reforma          podle ODS, TOP 09, VV a ČSSD Bezděkova Komise I. a II. varianta</dc:title>
</cp:coreProperties>
</file>