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0E6-D78E-4093-9B20-FAB57FF2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67E-6950-4CB1-9854-5E48D146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AA5-F092-4BFD-A303-40DED576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E63-F054-4F05-B7C2-9AF1F89E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7CD02-3604-4676-A855-9A6AF1C3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C9883-1D1C-4374-8D80-5F5B9F18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8EFF-EC05-48A8-853E-9F3E809C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04F2A-0A1D-47AE-9F45-E4E242E4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6111-DB57-4EA4-A53B-B1AA29DF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433B3-F5DC-40A6-8BEB-52E544CE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B7117-62DA-45A7-AEF3-4DCB4D05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02A6A-5BF6-442D-B255-11AD68A4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9975E-F866-44A3-AF96-1E3C4805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5861-D9DD-4265-A269-5F4BC4BF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3186-70EE-4687-AA61-5E85B92F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0924C-B86B-4D19-8310-97DD6089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99C33-9120-4D3A-990B-7D97B09C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4849-A4AF-4491-BAE8-644BF2B5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7267-D5DB-4B9A-9012-D7E74A17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45C8-5F62-4D26-B2CE-AB102A8A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3256-0F19-4596-8410-C5B7780D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CD88-B5DF-4C51-AB60-2D323A04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4855-FF59-487A-935B-97156D74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F59-EEB9-421B-826A-E0011DDC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AFF2-6BE0-4D01-812C-40B080C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F529-EE52-4666-9574-72B0A01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A95B-3198-426B-AB2D-26B09E74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8F6E-68E4-444C-BDB7-B4CD16AC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743B-808C-4D91-AAC5-393F3301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CC4B-14E3-4064-B2E1-87582F51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06DB-1658-4D56-8E23-23A74AFB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E450A-D488-4DF9-B053-845A0A82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9DA9-3C00-41FB-95BF-A686CD7B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4CD1-0A66-4BDB-9F0B-F4FEDF50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36C-272A-4EA2-9CF8-283CE44B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F8C4-72B3-475B-9B31-2D73B084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AA65-D416-4FB9-849C-A96AD50F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C264-A218-4991-BEF9-BE9245FF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D972-40D1-4466-BD80-238A32E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55CA-3A6B-4818-BE5E-96673B2A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5078-F0CD-47D8-8E29-6DF03BCA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0F0E0-702E-4B65-AFAB-BC2E3A35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0777-32C7-4A89-9EA4-A632E023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1F317-D1BB-40FF-A8DE-61113534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A1F4-F87D-4BB4-949B-EE2E46E7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F8A-4900-41D2-BF7A-C061225B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BD82-8750-4E68-BF73-96574CA8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AAADA-550A-449B-8551-68CB67DB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A06CA-BA42-4915-AF84-CC540769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68930-0CE2-4DCE-9A38-30F048B6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97F2A-F3F2-44C0-AF0F-6E25129D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0D4C7-2215-4ECF-9A1D-5BD74C23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D548-9199-4CD7-A73B-7C264DE1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3541C-A962-4A50-AB88-72CBD602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466DB-AF33-44A7-8E6B-B2C93D46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BFF-CEDE-4FB9-A152-3FBAA9A1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B3F-14E3-4ED1-815F-E88EF9AC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1B3-21DD-4ECD-96B3-799274C3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E4D-15BA-4DCB-A5A1-C820A143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AC2-B096-456C-A3DE-AE68168E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4391-FF0F-4245-96C6-EDB9926132C5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99C8-F3A7-47E6-AC98-3B0C193562DC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8"/>
          <p:cNvSpPr/>
          <p:nvPr/>
        </p:nvSpPr>
        <p:spPr>
          <a:xfrm>
            <a:off x="-27000" y="0"/>
            <a:ext cx="5003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252360" y="241200"/>
            <a:ext cx="4444920" cy="588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414360" y="1825560"/>
            <a:ext cx="11363400" cy="503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B7F7-30D0-44CA-A429-E97215B53645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CA92-9770-411E-9527-A6370110458F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8724960" y="365040"/>
            <a:ext cx="3035160" cy="622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331920"/>
            <a:ext cx="8572680" cy="62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4300560"/>
            <a:ext cx="12192120" cy="18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3"/>
          <a:stretch/>
        </p:blipFill>
        <p:spPr>
          <a:xfrm>
            <a:off x="7861320" y="4287960"/>
            <a:ext cx="2806560" cy="1871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>
            <a:off x="-905040" y="674640"/>
            <a:ext cx="4019760" cy="2984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4E96-0EE6-485E-B79D-31782826F38E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4000-DD30-4139-BFA0-BD8A9915B9DA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14360" y="1825560"/>
            <a:ext cx="11363400" cy="503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9C7D-BA7F-4FB2-91E5-7A64421E501F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475C-3B19-4A6C-8878-C7693A56EA10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1"/>
          <p:cNvGrpSpPr/>
          <p:nvPr/>
        </p:nvGrpSpPr>
        <p:grpSpPr>
          <a:xfrm>
            <a:off x="482760" y="2346480"/>
            <a:ext cx="11214000" cy="1844640"/>
            <a:chOff x="482760" y="2346480"/>
            <a:chExt cx="11214000" cy="1844640"/>
          </a:xfrm>
        </p:grpSpPr>
        <p:pic>
          <p:nvPicPr>
            <p:cNvPr id="129" name="Picture 6" descr=""/>
            <p:cNvPicPr/>
            <p:nvPr/>
          </p:nvPicPr>
          <p:blipFill>
            <a:blip r:embed="rId2"/>
            <a:stretch/>
          </p:blipFill>
          <p:spPr>
            <a:xfrm>
              <a:off x="482760" y="2346480"/>
              <a:ext cx="6843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"/>
            <p:cNvPicPr/>
            <p:nvPr/>
          </p:nvPicPr>
          <p:blipFill>
            <a:blip r:embed="rId3"/>
            <a:stretch/>
          </p:blipFill>
          <p:spPr>
            <a:xfrm>
              <a:off x="11012400" y="3506760"/>
              <a:ext cx="6843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"/>
            <p:cNvPicPr/>
            <p:nvPr/>
          </p:nvPicPr>
          <p:blipFill>
            <a:blip r:embed="rId4"/>
            <a:stretch/>
          </p:blipFill>
          <p:spPr>
            <a:xfrm>
              <a:off x="495360" y="3506760"/>
              <a:ext cx="6843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9" descr=""/>
            <p:cNvPicPr/>
            <p:nvPr/>
          </p:nvPicPr>
          <p:blipFill>
            <a:blip r:embed="rId5"/>
            <a:stretch/>
          </p:blipFill>
          <p:spPr>
            <a:xfrm>
              <a:off x="10999800" y="2346480"/>
              <a:ext cx="68436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12" descr=""/>
          <p:cNvPicPr/>
          <p:nvPr/>
        </p:nvPicPr>
        <p:blipFill>
          <a:blip r:embed="rId6"/>
          <a:stretch/>
        </p:blipFill>
        <p:spPr>
          <a:xfrm>
            <a:off x="0" y="465120"/>
            <a:ext cx="12188880" cy="322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66DB-4F65-4CFB-8BE3-620BC7D31080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18DF-A8BD-4299-B5CF-A77A564C0748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617220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1436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"/>
          <p:cNvSpPr/>
          <p:nvPr/>
        </p:nvSpPr>
        <p:spPr>
          <a:xfrm>
            <a:off x="617220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41436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520560" y="15876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11010960" y="148428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4"/>
          <a:stretch/>
        </p:blipFill>
        <p:spPr>
          <a:xfrm>
            <a:off x="520560" y="148428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/>
          <p:cNvPicPr/>
          <p:nvPr/>
        </p:nvPicPr>
        <p:blipFill>
          <a:blip r:embed="rId5"/>
          <a:stretch/>
        </p:blipFill>
        <p:spPr>
          <a:xfrm>
            <a:off x="11010960" y="15876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6"/>
          <a:stretch/>
        </p:blipFill>
        <p:spPr>
          <a:xfrm>
            <a:off x="0" y="6269040"/>
            <a:ext cx="12188880" cy="3222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2"/>
          <p:cNvSpPr/>
          <p:nvPr/>
        </p:nvSpPr>
        <p:spPr>
          <a:xfrm>
            <a:off x="812880" y="0"/>
            <a:ext cx="10362960" cy="6858000"/>
          </a:xfrm>
          <a:prstGeom prst="rect">
            <a:avLst/>
          </a:prstGeom>
          <a:blipFill rotWithShape="0">
            <a:blip r:embed="rId2">
              <a:alphaModFix amt="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3"/>
          <a:stretch/>
        </p:blipFill>
        <p:spPr>
          <a:xfrm>
            <a:off x="-6016680" y="210960"/>
            <a:ext cx="7220160" cy="2446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"/>
          <p:cNvPicPr/>
          <p:nvPr/>
        </p:nvPicPr>
        <p:blipFill>
          <a:blip r:embed="rId4"/>
          <a:stretch/>
        </p:blipFill>
        <p:spPr>
          <a:xfrm>
            <a:off x="10988640" y="4200480"/>
            <a:ext cx="7220160" cy="24465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-27000" y="0"/>
            <a:ext cx="5003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52360" y="241200"/>
            <a:ext cx="4444920" cy="588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166920" y="674640"/>
            <a:ext cx="750096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c114a"/>
                </a:solidFill>
                <a:latin typeface="Helvetica Neue"/>
              </a:rPr>
              <a:t>Genderová dimenze Národního plánu obnov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523880" y="1854000"/>
            <a:ext cx="91440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295e"/>
                </a:solidFill>
                <a:latin typeface="Helvetica Neue"/>
              </a:rPr>
              <a:t>Radan Šafař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295e"/>
                </a:solidFill>
                <a:latin typeface="Helvetica Neue"/>
              </a:rPr>
              <a:t>Odbor rovnosti žen a mužů, Úřad vlády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Genderová dimenze </a:t>
            </a:r>
            <a:br>
              <a:rPr sz="4000"/>
            </a:b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Národního plánu obno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38080" y="2057040"/>
            <a:ext cx="50292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c114a"/>
                </a:solidFill>
                <a:latin typeface="Helvetica Neue"/>
              </a:rPr>
              <a:t>Regulation of the European Parliament and of the Council </a:t>
            </a:r>
            <a:r>
              <a:rPr b="0" lang="en-US" sz="2200" spc="-1" strike="noStrike">
                <a:solidFill>
                  <a:srgbClr val="3c114a"/>
                </a:solidFill>
                <a:latin typeface="Helvetica Neue"/>
              </a:rPr>
              <a:t>establishing a Recovery and Resilience Fac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3c114a"/>
                </a:solidFill>
                <a:latin typeface="Helvetica Neue"/>
              </a:rPr>
              <a:t>Article 15 (3) (ia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c114a"/>
                </a:solidFill>
                <a:latin typeface="Helvetica Neue"/>
              </a:rPr>
              <a:t>an explanation </a:t>
            </a:r>
            <a:r>
              <a:rPr b="1" i="1" lang="en-US" sz="2200" spc="-1" strike="noStrike">
                <a:solidFill>
                  <a:srgbClr val="3c114a"/>
                </a:solidFill>
                <a:latin typeface="Helvetica Neue"/>
              </a:rPr>
              <a:t>of how the measures in the plan are expected to contribute to gender equality</a:t>
            </a:r>
            <a:r>
              <a:rPr b="0" i="1" lang="en-US" sz="2200" spc="-1" strike="noStrike">
                <a:solidFill>
                  <a:srgbClr val="3c114a"/>
                </a:solidFill>
                <a:latin typeface="Helvetica Neue"/>
              </a:rPr>
              <a:t> and equal opportunities for all and </a:t>
            </a:r>
            <a:r>
              <a:rPr b="1" i="1" lang="en-US" sz="2200" spc="-1" strike="noStrike">
                <a:solidFill>
                  <a:srgbClr val="3c114a"/>
                </a:solidFill>
                <a:latin typeface="Helvetica Neue"/>
              </a:rPr>
              <a:t>the mainstreaming</a:t>
            </a:r>
            <a:r>
              <a:rPr b="0" i="1" lang="en-US" sz="2200" spc="-1" strike="noStrike">
                <a:solidFill>
                  <a:srgbClr val="3c114a"/>
                </a:solidFill>
                <a:latin typeface="Helvetica Neue"/>
              </a:rPr>
              <a:t> of these objectives in line with the principles 2 and 3 of the </a:t>
            </a:r>
            <a:r>
              <a:rPr b="1" i="1" lang="en-US" sz="2200" spc="-1" strike="noStrike">
                <a:solidFill>
                  <a:srgbClr val="3c114a"/>
                </a:solidFill>
                <a:latin typeface="Helvetica Neue"/>
              </a:rPr>
              <a:t>European Pillar of Social Rights</a:t>
            </a:r>
            <a:r>
              <a:rPr b="0" i="1" lang="en-US" sz="2200" spc="-1" strike="noStrike">
                <a:solidFill>
                  <a:srgbClr val="3c114a"/>
                </a:solidFill>
                <a:latin typeface="Helvetica Neue"/>
              </a:rPr>
              <a:t>, and principle 5 of the </a:t>
            </a:r>
            <a:r>
              <a:rPr b="1" i="1" lang="en-US" sz="2200" spc="-1" strike="noStrike">
                <a:solidFill>
                  <a:srgbClr val="3c114a"/>
                </a:solidFill>
                <a:latin typeface="Helvetica Neue"/>
              </a:rPr>
              <a:t>SDG</a:t>
            </a:r>
            <a:r>
              <a:rPr b="0" i="1" lang="en-US" sz="2200" spc="-1" strike="noStrike">
                <a:solidFill>
                  <a:srgbClr val="3c114a"/>
                </a:solidFill>
                <a:latin typeface="Helvetica Neue"/>
              </a:rPr>
              <a:t>s and the </a:t>
            </a:r>
            <a:r>
              <a:rPr b="1" i="1" lang="en-US" sz="2200" spc="-1" strike="noStrike">
                <a:solidFill>
                  <a:srgbClr val="3c114a"/>
                </a:solidFill>
                <a:latin typeface="Helvetica Neue"/>
              </a:rPr>
              <a:t>national Gender equality strategy</a:t>
            </a:r>
            <a:r>
              <a:rPr b="0" i="1" lang="en-US" sz="2200" spc="-1" strike="noStrike">
                <a:solidFill>
                  <a:srgbClr val="3c114a"/>
                </a:solidFill>
                <a:latin typeface="Helvetica Neue"/>
              </a:rPr>
              <a:t>, where relevan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3c114a"/>
              </a:buClr>
              <a:buSzPct val="12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c114a"/>
                </a:solidFill>
                <a:latin typeface="Helvetica Neue"/>
              </a:rPr>
              <a:t>Návod Evropské k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38080" y="2079360"/>
            <a:ext cx="10515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3d7a"/>
                </a:solidFill>
                <a:latin typeface="Helvetica Neue"/>
                <a:ea typeface="Leelawadee UI"/>
              </a:rPr>
              <a:t>How does the plan </a:t>
            </a:r>
            <a:r>
              <a:rPr b="1" lang="en-US" sz="2400" spc="-1" strike="noStrike">
                <a:solidFill>
                  <a:srgbClr val="653d7a"/>
                </a:solidFill>
                <a:latin typeface="Helvetica Neue"/>
                <a:ea typeface="Leelawadee UI"/>
              </a:rPr>
              <a:t>ensure and foster equality between women and men</a:t>
            </a:r>
            <a:r>
              <a:rPr b="0" lang="en-US" sz="2400" spc="-1" strike="noStrike">
                <a:solidFill>
                  <a:srgbClr val="653d7a"/>
                </a:solidFill>
                <a:latin typeface="Helvetica Neue"/>
                <a:ea typeface="Leelawadee UI"/>
              </a:rPr>
              <a:t>? When doing so, Member States are in particular invited to explain how the plan </a:t>
            </a:r>
            <a:r>
              <a:rPr b="1" lang="en-US" sz="2400" spc="-1" strike="noStrike">
                <a:solidFill>
                  <a:srgbClr val="653d7a"/>
                </a:solidFill>
                <a:latin typeface="Helvetica Neue"/>
                <a:ea typeface="Leelawadee UI"/>
              </a:rPr>
              <a:t>mitigates the social and economic impact of the crisis on women, including in relation to gender-based and domestic violence</a:t>
            </a:r>
            <a:r>
              <a:rPr b="0" lang="en-US" sz="2400" spc="-1" strike="noStrike">
                <a:solidFill>
                  <a:srgbClr val="653d7a"/>
                </a:solidFill>
                <a:latin typeface="Helvetica Neue"/>
                <a:ea typeface="Leelawadee UI"/>
              </a:rPr>
              <a:t>, and how it contributes to the UN Sustainable Development Goal 5 on gender equality and its targe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Příprava</a:t>
            </a:r>
            <a:br>
              <a:rPr sz="4000"/>
            </a:b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Národního plánu obno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1001"/>
              </a:spcBef>
              <a:buClr>
                <a:srgbClr val="3c114a"/>
              </a:buClr>
              <a:buSzPct val="11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114a"/>
                </a:solidFill>
                <a:latin typeface="Helvetica Neue"/>
              </a:rPr>
              <a:t>Koordinuje M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buClr>
                <a:srgbClr val="3c114a"/>
              </a:buClr>
              <a:buSzPct val="11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114a"/>
                </a:solidFill>
                <a:latin typeface="Helvetica Neue"/>
              </a:rPr>
              <a:t>Východiska Národního plánu obnovy (MPŘ říjen 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buClr>
                <a:srgbClr val="3c114a"/>
              </a:buClr>
              <a:buSzPct val="11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114a"/>
                </a:solidFill>
                <a:latin typeface="Helvetica Neue"/>
              </a:rPr>
              <a:t>Do dubna 2021 předloženo 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buClr>
                <a:srgbClr val="3c114a"/>
              </a:buClr>
              <a:buSzPct val="11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114a"/>
                </a:solidFill>
                <a:latin typeface="Helvetica Neue"/>
              </a:rPr>
              <a:t>Alokace: cca 172 mld. K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buClr>
                <a:srgbClr val="3c114a"/>
              </a:buClr>
              <a:buSzPct val="11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114a"/>
                </a:solidFill>
                <a:latin typeface="Helvetica Neue"/>
              </a:rPr>
              <a:t>Role Odboru rovnosti žen a mužů Ú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buClr>
                <a:srgbClr val="3c114a"/>
              </a:buClr>
              <a:buSzPct val="11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3c114a"/>
              </a:buClr>
              <a:buSzPct val="11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Obrázek 1" descr=""/>
          <p:cNvPicPr/>
          <p:nvPr/>
        </p:nvPicPr>
        <p:blipFill>
          <a:blip r:embed="rId1"/>
          <a:stretch/>
        </p:blipFill>
        <p:spPr>
          <a:xfrm>
            <a:off x="1501920" y="1962000"/>
            <a:ext cx="331452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c114a"/>
                </a:solidFill>
                <a:latin typeface="Helvetica Neue"/>
              </a:rPr>
              <a:t>Připomínkované kompone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014480" y="1940040"/>
          <a:ext cx="10204560" cy="4687920"/>
        </p:xfrm>
        <a:graphic>
          <a:graphicData uri="http://schemas.openxmlformats.org/drawingml/2006/table">
            <a:tbl>
              <a:tblPr/>
              <a:tblGrid>
                <a:gridCol w="8219880"/>
                <a:gridCol w="1984680"/>
              </a:tblGrid>
              <a:tr h="31248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 Digitální služby občanům a firm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1284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 Digitální systémy stá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284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 Digitální ekonomika a společnost, inovativní start-upy a nové techn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284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5 Digitální transformace podni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248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6 Rozvoj kulturního a kreativního sektor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284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8 Digitální přístup k just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248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1 Udržitelná a bezpečná do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284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1 Inovace ve vzdělávání v kontextu digital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Š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284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2 Adaptace kapacity a zaměření školních program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Š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248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3 Modernizace služeb zaměstnanosti a rozvoj trhu 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S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284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1 Systematická podpora veřejných inve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M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284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1 Excelentní výzkum a vývoj v prioritních oblastech veřejného záj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Š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284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2 Podpora výzkumu a vývoje v podnicích a zavádění inovací do podnikové prax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248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1 Zvýšení odolnosti systému zdravotní péč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2480">
                <a:tc>
                  <a:txBody>
                    <a:bodyPr lIns="44280" rIns="4428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2 Prevence onkologických onemocně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9360" bIns="9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c114a"/>
                </a:solidFill>
                <a:latin typeface="Helvetica Neue"/>
              </a:rPr>
              <a:t>Role výb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38080" y="2079360"/>
            <a:ext cx="10515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53d7a"/>
                </a:solidFill>
                <a:latin typeface="Helvetica Neue"/>
                <a:ea typeface="Leelawadee UI"/>
              </a:rPr>
              <a:t>Možnost formulovat připomínky k jednotlivým komponentá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9T10:54:44Z</dcterms:created>
  <dc:creator>Ondřej Holub</dc:creator>
  <dc:description/>
  <dc:language>en-US</dc:language>
  <cp:lastModifiedBy>Šafařík Radan</cp:lastModifiedBy>
  <dcterms:modified xsi:type="dcterms:W3CDTF">2021-02-23T21:43:17Z</dcterms:modified>
  <cp:revision>57</cp:revision>
  <dc:subject/>
  <dc:title>PowerPoint Presentation</dc:title>
</cp:coreProperties>
</file>