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422-810D-4449-974E-F8B26782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63E-DEFD-4A7F-9EA5-C5E5A31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B76-FBC6-4B27-8153-FEAD044E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4C0-86A3-4303-A42B-C8B6CC3F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244C-0C2E-4926-9D3B-B0616DA9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EDDC-8F9D-4289-A811-4F55952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B544F-4EC9-4A07-87E1-43AFD9AC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807D-33C8-4497-90BD-FE29C8C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BE2A-4699-4FBC-88B4-70D84AE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B799-B217-40E6-9C89-D58A9E8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97D6-FA68-4F01-8F2E-FED2A45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47FA-3C4D-4D86-8A4D-4049D97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AEAB-3A12-40BD-9E75-3A8DEB2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8A21-7CBD-4C2F-9BF3-62AAA74A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1867-29BF-42B3-BCBD-D4C95E74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43EA-10F2-4310-A85D-DC48C840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46CB-3E34-4E97-B931-6AE11E9C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C4F-E2C4-4936-8B56-C9AC4D5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C129-5DE9-4459-A652-CA3955BB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0BF-C720-4BA0-9A50-3C00D9ED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116-65BA-4F40-AB05-5E4E72A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542-A5A1-44C8-AD2B-8CD2052A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D67A-3CDF-4D6D-9FF7-888B15B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841-B206-446D-8E94-0BB53CC2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4FFC-F43E-4632-9DCA-49D49A4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8FF-D166-4D39-BC03-D93CF5E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784E-872B-45FB-ABB9-BB65C154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C340-DFBE-4714-B21F-521890AC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51A-7BB8-4226-8BD9-2ECF3C82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9E1C-0435-4D23-89CA-6332DE44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19AA-E052-4A35-93F9-A40FE98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A5F9-6A36-497F-AD46-7BEEE30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9105-3AFF-4B1D-B1BA-8837895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8C57-373F-43B8-96DB-D063BA25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92F-4688-4746-A74F-F1E4D34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7C0D-37BF-453B-AADE-569BA11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73B2-76F3-404D-A829-0E7FD09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39E0-8D31-4B49-BE13-1715EEB7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45C8-7617-4450-9A43-097CAF4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28F5-41F4-4D43-94D1-3760E68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68D8-2263-4091-B328-A64FB456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9444-B564-463E-AF5A-0028AC29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1845-F649-43A2-8E3F-69E2C181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23C9C-04FB-401C-8EB0-FBE65351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86E9-D4B6-4671-83B5-7E0905EC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504-6113-4ADB-845C-E2E272A6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70A7-31DC-4FC7-AE3D-A0F6B83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A42B-ECCF-4C4E-A793-798129E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8970-84D2-4611-BE37-D72EBF24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A9C2-E771-4D89-8F95-2E7CE21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11F1-7B6B-477B-8161-4BCE9B6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7AF4-E339-47A1-9B9C-09433AF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AADC-86F9-43D3-AB10-71BBDCF3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FC57-21F8-44E7-9C70-19C11E1E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5A93-786E-43A6-B347-F062824E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E21-D286-40B1-9D5F-3A8EE058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E57-F872-4EC0-869F-AF77CE23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923-D9E1-42AA-8406-64ADA2B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455-56AB-4124-BA84-895C4FE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2C7-B056-4CEF-94AF-52E42E9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3633-6A42-4913-930B-6AC776BD53C5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13FE-4DA4-4D87-B67E-4CCEECDD1E8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8"/>
          <p:cNvSpPr/>
          <p:nvPr/>
        </p:nvSpPr>
        <p:spPr>
          <a:xfrm>
            <a:off x="-27000" y="0"/>
            <a:ext cx="5003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52360" y="241200"/>
            <a:ext cx="4444920" cy="588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414360" y="1825560"/>
            <a:ext cx="1136340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801-D0B7-4340-BCF0-052AB9D8E54F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A95-8857-4F31-BA02-029FF6C02ED1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8724960" y="365040"/>
            <a:ext cx="3035160" cy="622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331920"/>
            <a:ext cx="8572680" cy="62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4300560"/>
            <a:ext cx="12192120" cy="18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3"/>
          <a:stretch/>
        </p:blipFill>
        <p:spPr>
          <a:xfrm>
            <a:off x="7861320" y="4287960"/>
            <a:ext cx="280656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-905040" y="674640"/>
            <a:ext cx="4019760" cy="2984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69C-65B0-4DDA-A1CE-25F19D7A60BA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599-2A58-44F2-8B55-00C307BCC92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14360" y="1825560"/>
            <a:ext cx="1136340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00D3-5D40-4932-8BFA-4685C768B315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579-02C9-45BD-BBA0-6CFF452AC0AB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1"/>
          <p:cNvGrpSpPr/>
          <p:nvPr/>
        </p:nvGrpSpPr>
        <p:grpSpPr>
          <a:xfrm>
            <a:off x="482760" y="2346480"/>
            <a:ext cx="11214000" cy="1844640"/>
            <a:chOff x="482760" y="2346480"/>
            <a:chExt cx="11214000" cy="1844640"/>
          </a:xfrm>
        </p:grpSpPr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482760" y="234648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1012400" y="350676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495360" y="350676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"/>
            <p:cNvPicPr/>
            <p:nvPr/>
          </p:nvPicPr>
          <p:blipFill>
            <a:blip r:embed="rId5"/>
            <a:stretch/>
          </p:blipFill>
          <p:spPr>
            <a:xfrm>
              <a:off x="10999800" y="2346480"/>
              <a:ext cx="68436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2" descr=""/>
          <p:cNvPicPr/>
          <p:nvPr/>
        </p:nvPicPr>
        <p:blipFill>
          <a:blip r:embed="rId6"/>
          <a:stretch/>
        </p:blipFill>
        <p:spPr>
          <a:xfrm>
            <a:off x="0" y="465120"/>
            <a:ext cx="12188880" cy="322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E9EA-6BDA-4FC6-A4DA-1269D064AB06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89A-C011-443B-85F5-A5CAB3CF1DC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617220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1436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"/>
          <p:cNvSpPr/>
          <p:nvPr/>
        </p:nvSpPr>
        <p:spPr>
          <a:xfrm>
            <a:off x="617220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1436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520560" y="15876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11010960" y="148428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20560" y="148428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5"/>
          <a:stretch/>
        </p:blipFill>
        <p:spPr>
          <a:xfrm>
            <a:off x="11010960" y="15876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6"/>
          <a:stretch/>
        </p:blipFill>
        <p:spPr>
          <a:xfrm>
            <a:off x="0" y="6269040"/>
            <a:ext cx="12188880" cy="322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2"/>
          <p:cNvSpPr/>
          <p:nvPr/>
        </p:nvSpPr>
        <p:spPr>
          <a:xfrm>
            <a:off x="812880" y="0"/>
            <a:ext cx="10362960" cy="6858000"/>
          </a:xfrm>
          <a:prstGeom prst="rect">
            <a:avLst/>
          </a:prstGeom>
          <a:blipFill rotWithShape="0">
            <a:blip r:embed="rId2">
              <a:alphaModFix amt="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-6016680" y="210960"/>
            <a:ext cx="7220160" cy="2446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4"/>
          <a:stretch/>
        </p:blipFill>
        <p:spPr>
          <a:xfrm>
            <a:off x="10988640" y="4200480"/>
            <a:ext cx="7220160" cy="24465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-27000" y="0"/>
            <a:ext cx="5003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52360" y="241200"/>
            <a:ext cx="4444920" cy="588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ovéPole 2"/>
          <p:cNvSpPr/>
          <p:nvPr/>
        </p:nvSpPr>
        <p:spPr>
          <a:xfrm>
            <a:off x="1832040" y="642960"/>
            <a:ext cx="459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Priority CZ P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ovéPole 3"/>
          <p:cNvSpPr/>
          <p:nvPr/>
        </p:nvSpPr>
        <p:spPr>
          <a:xfrm>
            <a:off x="1749600" y="2090880"/>
            <a:ext cx="879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Neue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02/2021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– představení prvního návrhu priorit a zahájení diskuze s relevantními stakeholdery (Úřad vlády, ministerstva, Stálé zastoupení ČR při EU a dalš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04/2021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– předložení návrhu priorit Radě vlády pro rovnost žen a muž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05/2021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 – schválení priorit Výborem pro 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3Q 2021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– vznik vstupu ČR do deklarace TRIO PRES (východiskem budou schválené prio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1Q 2022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– představení deklarace TRIO P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ovéPole 2"/>
          <p:cNvSpPr/>
          <p:nvPr/>
        </p:nvSpPr>
        <p:spPr>
          <a:xfrm>
            <a:off x="1832040" y="642960"/>
            <a:ext cx="459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Priority CZ P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ovéPole 3"/>
          <p:cNvSpPr/>
          <p:nvPr/>
        </p:nvSpPr>
        <p:spPr>
          <a:xfrm>
            <a:off x="1749600" y="2090880"/>
            <a:ext cx="8797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Neue"/>
              </a:rPr>
              <a:t>Aktuální návrh priorit CZ P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Hlavní společná témata napříč TRIO P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Ekonomické postavení žen v návaznosti na dopady pandemie covid-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Prevence a potírání genderově podmíněného a domácího nási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Nastíněná témata: mainstreaming rovnosti žen a mužů i do dalších formací Rady EU, problematika genderových stereotypů, zastoupení žen v rozhodování, digitalizace a dalš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ovéPole 2"/>
          <p:cNvSpPr/>
          <p:nvPr/>
        </p:nvSpPr>
        <p:spPr>
          <a:xfrm>
            <a:off x="1770120" y="642960"/>
            <a:ext cx="676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Aktivity během CZ P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ovéPole 3"/>
          <p:cNvSpPr/>
          <p:nvPr/>
        </p:nvSpPr>
        <p:spPr>
          <a:xfrm>
            <a:off x="1749600" y="2090880"/>
            <a:ext cx="87976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Neue"/>
              </a:rPr>
              <a:t>Aktivity k genderové rovnosti během CZ P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jednání </a:t>
            </a: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Skupiny na vysoké úrovni pro gender mainstre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c114a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předsednická konference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k rovnosti žen a muž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aktivity k vydání </a:t>
            </a: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indexu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rovnosti žen a mužů </a:t>
            </a: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EIGE</a:t>
            </a: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(zaměření: socioekonomické dopady pandemie covid-1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vyjednávání tradičních </a:t>
            </a: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závěrů Rady EU</a:t>
            </a: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 k rovnosti žen a muž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politická debata během jednání </a:t>
            </a: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Rady EPS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Neue"/>
              </a:rPr>
              <a:t>možné vyjednávání legislativních návrh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ovéPole 2"/>
          <p:cNvSpPr/>
          <p:nvPr/>
        </p:nvSpPr>
        <p:spPr>
          <a:xfrm>
            <a:off x="1640880" y="642960"/>
            <a:ext cx="55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Legislativní návr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ovéPole 3"/>
          <p:cNvSpPr/>
          <p:nvPr/>
        </p:nvSpPr>
        <p:spPr>
          <a:xfrm>
            <a:off x="1749600" y="2090880"/>
            <a:ext cx="879768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Neue"/>
              </a:rPr>
              <a:t>Návrh směrnice o </a:t>
            </a:r>
            <a:r>
              <a:rPr b="1" lang="cs-CZ" sz="2000" spc="-1" strike="noStrike">
                <a:solidFill>
                  <a:srgbClr val="3c114a"/>
                </a:solidFill>
                <a:latin typeface="Helvetica Neue"/>
              </a:rPr>
              <a:t>zlepšení genderové vyváženosti mezi členy řídících a dozorčích orgánů společností kotovaných na burzách </a:t>
            </a:r>
            <a:r>
              <a:rPr b="0" i="1" lang="cs-CZ" sz="2000" spc="-1" strike="noStrike">
                <a:solidFill>
                  <a:srgbClr val="000000"/>
                </a:solidFill>
                <a:latin typeface="Helvetica Neue"/>
              </a:rPr>
              <a:t>(vyjednávána od roku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Neue"/>
              </a:rPr>
              <a:t>Návrh rozhodnutí Rady o </a:t>
            </a:r>
            <a:r>
              <a:rPr b="1" lang="cs-CZ" sz="2000" spc="-1" strike="noStrike">
                <a:solidFill>
                  <a:srgbClr val="3c114a"/>
                </a:solidFill>
                <a:latin typeface="Helvetica Neue"/>
              </a:rPr>
              <a:t>přistoupení k Úmluvě Rady Evropy o prevenci a potírání násilí na ženách a domácího násilí jménem Evropské unie</a:t>
            </a:r>
            <a:r>
              <a:rPr b="0" lang="cs-CZ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Helvetica Neue"/>
              </a:rPr>
              <a:t>(procedurální otázky jsou předmětem řízení před Soudním dvorem E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Neue"/>
              </a:rPr>
              <a:t>Návrh směrnice za účelem </a:t>
            </a:r>
            <a:r>
              <a:rPr b="1" lang="cs-CZ" sz="2000" spc="-1" strike="noStrike">
                <a:solidFill>
                  <a:srgbClr val="3c114a"/>
                </a:solidFill>
                <a:latin typeface="Helvetica Neue"/>
              </a:rPr>
              <a:t>prevence a potírání n</a:t>
            </a:r>
            <a:r>
              <a:rPr b="1" lang="pt-BR" sz="2000" spc="-1" strike="noStrike">
                <a:solidFill>
                  <a:srgbClr val="3c114a"/>
                </a:solidFill>
                <a:latin typeface="Helvetica Neue"/>
              </a:rPr>
              <a:t>ásilí na ženách a domácí</a:t>
            </a:r>
            <a:r>
              <a:rPr b="1" lang="cs-CZ" sz="2000" spc="-1" strike="noStrike">
                <a:solidFill>
                  <a:srgbClr val="3c114a"/>
                </a:solidFill>
                <a:latin typeface="Helvetica Neue"/>
              </a:rPr>
              <a:t>ho</a:t>
            </a:r>
            <a:r>
              <a:rPr b="1" lang="pt-BR" sz="2000" spc="-1" strike="noStrike">
                <a:solidFill>
                  <a:srgbClr val="3c114a"/>
                </a:solidFill>
                <a:latin typeface="Helvetica Neue"/>
              </a:rPr>
              <a:t> násilí</a:t>
            </a:r>
            <a:r>
              <a:rPr b="0" lang="pt-BR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Helvetica Neue"/>
              </a:rPr>
              <a:t>(bude představena v 4Q 20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Neue"/>
              </a:rPr>
              <a:t>Návrh směrnice o stanovení minimálních požadavků na </a:t>
            </a:r>
            <a:r>
              <a:rPr b="1" lang="cs-CZ" sz="2000" spc="-1" strike="noStrike">
                <a:solidFill>
                  <a:srgbClr val="3c114a"/>
                </a:solidFill>
                <a:latin typeface="Helvetica Neue"/>
              </a:rPr>
              <a:t>transparentnost odměňování</a:t>
            </a:r>
            <a:r>
              <a:rPr b="0" lang="cs-CZ" sz="2000" spc="-1" strike="noStrike">
                <a:solidFill>
                  <a:srgbClr val="000000"/>
                </a:solidFill>
                <a:latin typeface="Helvetica Neue"/>
              </a:rPr>
              <a:t> s cílem posílit uplatňování zásady stejné odměny za stejnou práci nebo práci za stejnou hodnotu mezi ženami a muži </a:t>
            </a:r>
            <a:r>
              <a:rPr b="0" i="1" lang="cs-CZ" sz="2000" spc="-1" strike="noStrike">
                <a:solidFill>
                  <a:srgbClr val="000000"/>
                </a:solidFill>
                <a:latin typeface="Helvetica Neue"/>
              </a:rPr>
              <a:t>(bude představena 3. března 20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9T10:54:44Z</dcterms:created>
  <dc:creator>Ondřej Holub</dc:creator>
  <dc:description/>
  <dc:language>en-US</dc:language>
  <cp:lastModifiedBy>Kabzanová Kristyna</cp:lastModifiedBy>
  <dcterms:modified xsi:type="dcterms:W3CDTF">2021-02-24T12:38:45Z</dcterms:modified>
  <cp:revision>81</cp:revision>
  <dc:subject/>
  <dc:title>PowerPoint Presentation</dc:title>
</cp:coreProperties>
</file>