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45960" y="1279440"/>
            <a:ext cx="4606920" cy="345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925880"/>
            <a:ext cx="568008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732A-680F-43B2-9C29-EB5C33AB70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46320" y="12794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925880"/>
            <a:ext cx="568008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09D-7DFE-485E-BB41-F8A1353096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230-2674-42F3-8B26-5BB682DA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2B5-964E-41B3-952A-964B0BBC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D6B-8245-4915-A493-234E3F5D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6D2-EAB2-4D68-9877-77EA6CE2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F48-3585-4F50-8338-79141DA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58F-FD94-48CF-A530-CEED7F4C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7A5-95F3-4F90-B541-2FD353D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30E-9ED9-401C-8C0D-BB62DD5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018-BCC8-41C1-87BB-FB4BFAAB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CCC-F7E2-4702-B8DE-A8ED0E7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048-6427-4619-8B1C-F1AE3099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E7C-373C-487B-A4CA-C1DE1E7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8DC-704C-4FD3-95A9-66732011E4B7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ec.europa.eu/info/funding-tenders/opportunities/portal/screen/opportunities/topic-search;callCode=null;freeTextSearchKeyword=;matchWholeText=true;typeCodes=0,1,2;statusCodes=31094501,31094502,31094503;programmePeriod=2021%20-%202027;programCcm2Id=4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čané, rovnost, práva a hodnoty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(Citizens, Equality, Right and Values programe – CERV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411280" y="386064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587520" y="476280"/>
            <a:ext cx="2757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6" descr=""/>
          <p:cNvPicPr/>
          <p:nvPr/>
        </p:nvPicPr>
        <p:blipFill>
          <a:blip r:embed="rId3"/>
          <a:stretch/>
        </p:blipFill>
        <p:spPr>
          <a:xfrm>
            <a:off x="5651640" y="743040"/>
            <a:ext cx="31683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revenci a boj proti genderově podmíněnému násilí a násilí na dětech</a:t>
            </a:r>
            <a:r>
              <a:rPr b="1" lang="cs-CZ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Priority: </a:t>
            </a:r>
            <a:br>
              <a:rPr sz="18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)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Rozsáhlá a dlouhodobá nadnárodní opatření k řešení násilí na základě pohlaví,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2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ředcházení násilí spojenému se škodlivými praktikami a boj proti němu,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3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imární prevence genderově podmíněného násilí,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4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dpora a zlepšování vnitrostátního shromažďování údajů o násilí páchaném na dětech,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5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sílení reakcí na prevenci a podporu dětských obětí násilí prostřednictvím posílení systémů ochrany dětí na národní a místní úrovni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prevenci a boj proti genderově podmíněnému násilí a násilí na dětech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br>
              <a:rPr sz="1400"/>
            </a:br>
            <a:r>
              <a:rPr b="1" lang="cs-CZ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uzávěrka pro předložení žádosti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2. dubna 2022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výše grantu pro prioritu 1 činí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 – 2 mil EUR,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 priority 2 a 3 činí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75 tis EUR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až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1 mil EUR,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požadovaná částka pro priority 4 a 5 činí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€ 75 000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financování EU 90 %, přímé náklady + paušál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počet partnerů: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2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(žadatel+partner) - do aktivní účasti na projektech se důrazně doporučuje zapojit veřejný orgán, včetně regionálních a místních orgánů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jekty národního i mezinárodního rozměru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doba trvání projektu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: pro prioritu 1 činí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2 – 36 měsíců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 priority 2 – 5 činí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2 – 24 měsíců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(možné v relevantních případech prodloužit)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innosti, které lze financov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innosti zaměřené na zvyšování povědomí a posilování postavení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udování kapacit a školení pro odborník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vrh, vývoj a implementace protokolů, vývoj pracovních metod a nástrojů, koordinační platformy a skupin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vrh služeb a opatření zlepšujících přístup ke službám podpory obětí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měna osvědčených postupů, vzájemné učení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pování systémů sběru dat (priorita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tváření a implementace strategií a systémů sběru dat, včetně systémů řízení případů (priorita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odnocení trendů fenoménu násilí a sběr dat a analýza dopadu preventivních politik a reakcí (priorita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ílené komunikační/propagační aktivity, které budou zaměřeny na koordinaci reakcí na násilí páchané na dětech (priorita 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udování kapacit a školení pro odborníky se specifickými skupinami odborníků pracujících přímo s dětmi (např. zdravotníci, učitelé) (priorita 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83920" y="166176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rovnosti žen a mužů</a:t>
            </a:r>
            <a:br>
              <a:rPr sz="2000"/>
            </a:b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Cíl: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dpora, prosazování a provádění komplexních politik na podporu plného užívání práv žen, osvobození od genderových stereotypů, rovnosti pohlaví, včetně rovnováhy mezi pracovním a soukromým životem, posílení postavení žen a gender mainstreamingu.</a:t>
            </a:r>
            <a:br>
              <a:rPr sz="1400"/>
            </a:br>
            <a:br>
              <a:rPr sz="14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Priority: </a:t>
            </a:r>
            <a:br>
              <a:rPr sz="18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)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rovná účast a zastoupení žen a mužů v politickém a ekonomickém rozhodování,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2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tírání genderových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stereotypů, mimo jiné se zaměřením na mládež, a v reklamě a médiích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br>
              <a:rPr sz="1400"/>
            </a:br>
            <a:br>
              <a:rPr sz="14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Celková alokace: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6 800 000 EUR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rovnosti žen a mužů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uzávěrka pro předložení žádosti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6. března 2022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aximální výše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grantu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není stanovena</a:t>
            </a: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žadovaná částka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€ 75 000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financování EU 90 %, přímé náklady + paušál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čet partnerů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2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(žadatel+partner)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jekty národního i mezinárodního rozměru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doba trvání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jektu: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2 – 24 měsíců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(možné v relevantních případech prodloužit)</a:t>
            </a: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doba započetí projektu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bude stanovena v Grantové dohodě (září – listopad 2022), běžné započetí projektu do 6 měsíců od jejího podepsání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innosti, které lze financov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voj, provádění, sledování a hodnocení komplexních národních strategií odpovědnými orgány členských států k dosažení rovné účasti/zastoupení žen a mužů v politice a hospodářském životě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zájemné učení a identifikace/výměna osvědčených postupů mezi odpovědnými orgány členských států a/nebo mezi příslušnými zúčastněnými stranami, jako jsou orgány pro rovné zacházení, organizace občanské společnosti, zejména organizace žen, a média; rozvoj a/nebo šíření vysoce kvalitních nástrojů a/nebo úspěšných strategií zaměřených na dosažení rovné účasti/zastoupení žen a mužů v politice a hospodářském životě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innosti na zvyšování povědomí, jako jsou semináře, konference, kampaně, publikace, tiskové aktivity a kampaně na sociálních sítích, které mohou zahrnovat zvyšování povědomí o podnikatelských výhodách vyvážené účasti žen a mužů ve vedoucích pozicích podniků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sílení spolupráce/vytváření sítí mezi klíčovými zúčastněnými stranami, jako jsou národní a/nebo regionální/místní orgány a/nebo jejich sdružení, subjekty pro rovné zacházení, organizace občanské společnosti, zejména organizace žen, a intenzivnější vytváření koa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innosti, které lze financov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2828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innosti zaměřené na zvyšování povědomí a posílení postavení, zejména činnosti zaměřené na řešení negativních postojů a stereotypů, pokud jde o genderové role a očekávané chování mužů a žen, dívek a chlapců, a poskytování alternativních modelů nebo možností volb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udování kapacit a školení pro příslušné odborníky, zejména osvětové činnosti pro odborníky pracující s mládeží (např. ve školách nebo mimoškolních aktivitách) nebo odborníky v odvětví médií a reklam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měna osvědčených postupů, vzájemné učení, zejména činnosti podporující příklady osvědčených postupů organizací, struktur nebo společností, které se zabývají genderovými stereotypy a poskytují alternativní mod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eferovány jsou praktické projekty, které vyvíjejí a realizují konkrétní opatření a zapojují cílovou skupinu. Žadatelé by měli případně usilovat o aktivní účast dětí a mládeže při navrhování a provádění činnost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360" y="1201320"/>
            <a:ext cx="8167680" cy="42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a prosazování práv dítěte</a:t>
            </a:r>
            <a:br>
              <a:rPr sz="2000"/>
            </a:br>
            <a:br>
              <a:rPr sz="1400"/>
            </a:br>
            <a:br>
              <a:rPr sz="1400"/>
            </a:br>
            <a:r>
              <a:rPr b="1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Cíl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: Podpora, prosazování a provádění komplexních politik na ochranu a prosazování práv dítěte</a:t>
            </a: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br>
              <a:rPr sz="14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Priorita pro 2022: </a:t>
            </a:r>
            <a:br>
              <a:rPr sz="1800"/>
            </a:br>
            <a:br>
              <a:rPr sz="14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I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  <a:ea typeface="Arial"/>
              </a:rPr>
              <a:t>mplementace doporučení strategie EU o právech dítěte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 – výzva přispěje k provádění první tematické oblasti strategie EU o právech dítěte – Účast na politickém a demokratickém životě: EU, která dává dětem možnost stát se aktivními občany a členy demokratických společností.</a:t>
            </a:r>
            <a:br>
              <a:rPr sz="1600"/>
            </a:br>
            <a:br>
              <a:rPr sz="16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Celková alokace: 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3 010 000 EUR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a prosazování práv dítět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uzávěrka pro předložení žádosti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8. května 2022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aximální výše grantu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není stanovena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požadovaná částka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€ 75 000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financování EU 90 %, přímé náklady + paušál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doba trvání projektu  12 – 24 měsíců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počet partnerů: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2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(žadatel+partner) - do aktivní účasti na projektech se důrazně doporučuje zapojit veřejný orgán, včetně regionálních a místních orgánů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jekty národního i mezinárodního rozměru - Projekty financované v rámci této výzvy by měly podporovat rovnost mezi ženami a muži a práva dítěte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innosti, které lze financov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tvoření dlouhodobých a udržitelných programů a mechanismů účasti dětí na místní a národní úrovni, včetně ško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skytování podpory a rozšíření provozního rozsahu stávajících mechanismů účasti dětí s cílem začlenit je do širších rozhodovacích procesů a demokratického systému na místní a národní úrovn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zájemné učení, školicí činnosti, výměna osvědčených postupů, spolupráce, včetně identifikace osvědčených postupů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udování kapacit a školicí činnosti národních, regionálních a místních orgánů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školení a aktivity zaměřené na zvyšování povědomí dětí a dospělých o právu na vyslyšení a o účasti dět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Cíl programu CERV 2021 - 27</a:t>
            </a:r>
            <a:br>
              <a:rPr sz="2400"/>
            </a:br>
            <a:br>
              <a:rPr sz="2400"/>
            </a:br>
            <a:r>
              <a:rPr b="0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Obecným cílem programu je chránit a prosazovat práva a hodnoty zakotvené ve Smlouvách EU a platných mezinárodních úmluvách o lidských právech, zejména podporou organizací občanské společnosti a jiných zúčastněných subjektů, které působí na místní, regionální, celostátní a nadnárodní úrovni, a prostřednictvím podporování občanské a demokratické angažovanosti, za účelem zachování a dalšího rozvoje otevřené, demokratické, spravedlivé a inkluzivní společnosti, jež je založena na zásadách právního státu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12" descr=""/>
          <p:cNvPicPr/>
          <p:nvPr/>
        </p:nvPicPr>
        <p:blipFill>
          <a:blip r:embed="rId2"/>
          <a:stretch/>
        </p:blipFill>
        <p:spPr>
          <a:xfrm>
            <a:off x="5651640" y="743040"/>
            <a:ext cx="316836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rovnosti a boje proti rasismu, xenofobii a diskriminaci </a:t>
            </a:r>
            <a:br>
              <a:rPr sz="2000"/>
            </a:b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Cíl: </a:t>
            </a:r>
            <a:r>
              <a:rPr b="0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podporovat komplexní a průřezový přístup a konkrétní opatření k prevenci a boji proti nesnášenlivosti, rasismu, xenofobii a diskriminaci, zejména na základě rasového nebo etnického původu, barvy pleti, náboženství, sexuální orientace, genderové identity, včetně případů, kdy se projevuje v podobě anticikanismu, antisemitismu, antimuslimské nenávisti, afrofobie a LGBTIQ fobie, offline i online. Návrhy projektů mohou zahrnovat opatření zaměřená na dopad pandemie COVID-19 ovlivňující tyto skupiny z hlediska netolerance, rasismu, xenofobie, diskriminace a nenávisti.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Celková alokace: 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12 240 000 EUR</a:t>
            </a: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rovnosti a boje proti rasismu, xenofobii a diskriminaci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Priority: </a:t>
            </a:r>
            <a:br>
              <a:rPr sz="18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)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boj proti netoleranci, rasismu, xenofobii, diskriminaci, projevům nenávisti a trestným činům z nenávisti, cca 7 740 000 EUR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2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odpora řízení diverzity a začlenění na pracovišti jak ve veřejném, tak v soukromém sektoru, cca 500 000 EUR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3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boj proti diskriminaci LGBTIQ lidí a propagace LGBTIQ, rovnost prostřednictvím implementace Strategie rovnosti LGBTIQ, cca 1 mil EUR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4)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evence, reporting a potírání nenávistných online projevů, cca 1,5 mil EUR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5) omezeno na veřejné orgány,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aby zlepšily své reakce na (vícenásobnou a mezisektorovou) diskriminaci, rasismus a xenofobii, zejména na základě rasového nebo etnického původu, náboženství nebo barvy pleti, jakož i na základě sexuální orientace, genderové identity, genderového vyjádření nebo sexuálních charakteristik. Cca 1,5 mil EUR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odporu rovnosti a boje proti rasismu, xenofobii a diskriminaci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uzávěrka pro předložení žádosti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24. února 2022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aximální výše grantu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není stanovena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požadovaná částka 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€ 75 000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financování EU 90 %, přímé náklady + paušál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doba trvání projektu  12 – 24 měsíců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minimální počet partnerů:</a:t>
            </a:r>
            <a:r>
              <a:rPr b="1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 2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(žadatel+partner)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projekty národního i mezinárodního rozměru - činnosti, které podporují konkrétní politické strany, nebudou financovány, bez ohledu na důvod jejich žádosti nebo cíle. Kromě toho by činnosti měly náležitě věnovat pozornost genderovému hledisku, a to jak při navrhování, provádění, tak při monitorování - bude zohledněno při hodnocení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innosti, které lze financov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990360"/>
            <a:ext cx="85075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ování koalic a kapaci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ení odborníků a obětí (vícenásobné a mezisektorové) diskriminace, projevů nenávisti a trestných činů z nenávist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zájemné učení, výměna osvědčených postupů, spolupráce, včetně identifikace osvědčených postupů, které lze přenést do dalších zúčastněných zemí a do veřejných politi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vrhování a provádění protirasistických strategií nebo akčních plánů, (např. antisemitismus, anticikanismus, antimuslimská nenávist nebo jiné specifické formy nesnášenlivosti) a iniciované na místní úrovn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íření informací a kampaní na zvyšování povědomí, včetně využití sociálních médií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udie a analytické činnosti, včetně mezisektorových analýz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pora digitálních dovedností a kritického myšlení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znamenávání dat, sběr dat, průzkumy včetně členění d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ání a hlášení případů diskriminace, projevů nenávisti a trestných činů z nenávisti, včetně analýzy vzorců a trendů, spouštěčů a ekosystému online nenávist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ílení postavení obětí a podpora s ohledem na specifické potřeby žen a mužů, dívek a chlapců v celé jejich rozmanito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Aktuální otevřené výzvy programu CERV 2021 – 27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Funding and tenders CERV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patka_A5_negativ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ázek 12" descr=""/>
          <p:cNvPicPr/>
          <p:nvPr/>
        </p:nvPicPr>
        <p:blipFill>
          <a:blip r:embed="rId3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27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Národní kontaktní místo</a:t>
            </a:r>
            <a:br>
              <a:rPr sz="2000"/>
            </a:b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+ 420 725 755 503</a:t>
            </a:r>
            <a:br>
              <a:rPr sz="2000"/>
            </a:b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www.euroskop.cz</a:t>
            </a:r>
            <a:br>
              <a:rPr sz="2000"/>
            </a:b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hradecky.pavel@vlad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Obrázek 3" descr=""/>
          <p:cNvPicPr/>
          <p:nvPr/>
        </p:nvPicPr>
        <p:blipFill>
          <a:blip r:embed="rId2"/>
          <a:stretch/>
        </p:blipFill>
        <p:spPr>
          <a:xfrm>
            <a:off x="5651640" y="595440"/>
            <a:ext cx="2984400" cy="626760"/>
          </a:xfrm>
          <a:prstGeom prst="rect">
            <a:avLst/>
          </a:prstGeom>
          <a:ln w="0">
            <a:noFill/>
          </a:ln>
        </p:spPr>
      </p:pic>
      <p:pic>
        <p:nvPicPr>
          <p:cNvPr id="233" name="Obrázek 1" descr=""/>
          <p:cNvPicPr/>
          <p:nvPr/>
        </p:nvPicPr>
        <p:blipFill>
          <a:blip r:embed="rId3"/>
          <a:stretch/>
        </p:blipFill>
        <p:spPr>
          <a:xfrm>
            <a:off x="611280" y="324000"/>
            <a:ext cx="276228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31920" y="1341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99"/>
                </a:solidFill>
                <a:latin typeface="Arial"/>
                <a:ea typeface="Arial"/>
              </a:rPr>
              <a:t>Struktura programu CERV 2021 - 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1. 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Hodnoty EU 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- ochrana a podpora hodnot Un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2. 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Rovnost, práva a rovnost pohlaví 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- podpora práv, nediskriminace a rovnosti, včetně rovnosti žen a mužů, a prosazování integrace z hlediska rovnosti pohlaví a nediskrimin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3. 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Angažovanost a účast občanů 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- podpora zapojení a účasti občanů na demokratickém životě Unie a výměnách mezi občany různých členských států a zvyšování povědomí o jejich společné evropské histor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4. </a:t>
            </a:r>
            <a:r>
              <a:rPr b="1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Daphne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 - prevence násilí na základě pohlaví a násilí na dětech a boj proti n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ázek 3" descr=""/>
          <p:cNvPicPr/>
          <p:nvPr/>
        </p:nvPicPr>
        <p:blipFill>
          <a:blip r:embed="rId2"/>
          <a:stretch/>
        </p:blipFill>
        <p:spPr>
          <a:xfrm>
            <a:off x="5651640" y="595440"/>
            <a:ext cx="298440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počet programu 2021-2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rázek 3" descr=""/>
          <p:cNvPicPr/>
          <p:nvPr/>
        </p:nvPicPr>
        <p:blipFill>
          <a:blip r:embed="rId2"/>
          <a:stretch/>
        </p:blipFill>
        <p:spPr>
          <a:xfrm>
            <a:off x="5651640" y="595440"/>
            <a:ext cx="2984400" cy="62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755640" y="2708280"/>
          <a:ext cx="6985080" cy="2160720"/>
        </p:xfrm>
        <a:graphic>
          <a:graphicData uri="http://schemas.openxmlformats.org/drawingml/2006/table">
            <a:tbl>
              <a:tblPr/>
              <a:tblGrid>
                <a:gridCol w="4132440"/>
                <a:gridCol w="1427040"/>
                <a:gridCol w="142560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kový rozpočet po navýš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dnoty U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526.0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vnost, práva a genderová rovnost + Daph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.808.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čanství (bývalý program Evropa pro obča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.170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exibil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2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K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3.70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Oblast 1 - Hodnoty Unie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Oblast je zaměřena na ochranu a prosazování práv a zvyšování povědomí o nich poskytováním finanční podpory organizacím občanské společnosti, které působí na místní, regionální, celostátní a nadnárodní úrovni v oblasti podpory a kultivace těchto práv, čímž bude rovněž posilovat ochranu a prosazování hodnot Unie a dodržování zásad právního státu a přispívat k budování demokratičtější Unie, demokratickému dialogu, transparentnosti a řádné veřejné správě.</a:t>
            </a: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12" descr=""/>
          <p:cNvPicPr/>
          <p:nvPr/>
        </p:nvPicPr>
        <p:blipFill>
          <a:blip r:embed="rId2"/>
          <a:stretch/>
        </p:blipFill>
        <p:spPr>
          <a:xfrm>
            <a:off x="5651640" y="743040"/>
            <a:ext cx="316836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160" y="907920"/>
            <a:ext cx="80960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Oblast 2 - Rovnost, práva a genderová rovnost </a:t>
            </a:r>
            <a:br>
              <a:rPr sz="2000"/>
            </a:br>
            <a:br>
              <a:rPr sz="20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) podpora rovnosti a předcházení nerovnosti a diskriminaci na základě pohlaví, rasy nebo etnického původu, náboženského vyznání nebo přesvědčení, zdravotního postižení, věku nebo sexuální orientace a boj proti nim, jakož i na dodržování zásady zákazu diskriminac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2) podpora, rozvíjení a provádění komplexních politik, jejichž cílem je: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- prosazování plného požívání práv ženami, podpora genderové rovnosti včetně slaďování pracovního a soukromého života, posilování postavení žen a uplatňování hlediska genderové rovnosti;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- prosazování zákazu diskriminace a jeho uplatňování;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- boj proti rasismu, xenofobii a všem formám nesnášenlivosti, včetně homofobie, bifobie, transfobie a interfobie a nesnášenlivosti na základě genderové identity, a to online i offline;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- ochrana práv dítěte a jejich prosazování; </a:t>
            </a: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- ochrana práv osob se zdravotním postižením a jejich prosazování;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3) ochrana a prosazování práv spojených s občanstvím Unie a práva na ochranu osobních údajů.</a:t>
            </a:r>
            <a:br>
              <a:rPr sz="1400"/>
            </a:br>
            <a:br>
              <a:rPr sz="16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36680" y="2060640"/>
            <a:ext cx="79516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12" descr=""/>
          <p:cNvPicPr/>
          <p:nvPr/>
        </p:nvPicPr>
        <p:blipFill>
          <a:blip r:embed="rId2"/>
          <a:stretch/>
        </p:blipFill>
        <p:spPr>
          <a:xfrm>
            <a:off x="5649840" y="398520"/>
            <a:ext cx="316872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blast 3 - Angažovanost a účast občanů </a:t>
            </a:r>
            <a:br>
              <a:rPr sz="2000"/>
            </a:br>
            <a:br>
              <a:rPr sz="20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1) podpora projektů k připomenutí klíčových okamžiků v moderních evropských dějinách, jako byl nástup autoritářských a totalitních režimů a jeho příčiny a následky, a projektů zaměřených na zvyšování povědomí evropských občanů o jejich společné historii, kultuře, kulturním dědictví a hodnotách, čímž se bude posilovat jejich chápání Unie, jejího původu, účelu, rozmanitosti a úspěchů a významu vzájemného porozumění a tolerance;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2) podpora účasti občanů a zájmových sdružení na demokratickém a občanském životě Unie a jejich přispívání k tomuto životu tím, že jim umožní projevovat a veřejně si vyměňovat názory ve všech oblastech činnosti Unie;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3) podpora výměn mezi občany různých zemí, zejména prostřednictvím partnerství a sítí měst, s cílem umožnit jim prakticky zažít bohatství a rozmanitost společného dědictví Unie a uvědomit si, že toto bohatství a rozmanitost jsou pevným základem pro společnou budoucnost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ázek 12" descr=""/>
          <p:cNvPicPr/>
          <p:nvPr/>
        </p:nvPicPr>
        <p:blipFill>
          <a:blip r:embed="rId2"/>
          <a:stretch/>
        </p:blipFill>
        <p:spPr>
          <a:xfrm>
            <a:off x="5651640" y="743040"/>
            <a:ext cx="316836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Oblast 4 - Daphne </a:t>
            </a:r>
            <a:br>
              <a:rPr sz="2000"/>
            </a:br>
            <a:br>
              <a:rPr sz="20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1) prevence všech forem genderově podmíněného násilí na ženách a dívkách a domácího násilí na všech úrovních a jejich potírání, včetně podpory standardů stanovených v Úmluvě Rady Evropy o prevenci a potírání násilí na ženách a domácího násilí (Istanbulské úmluvy);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2) předcházení všem formám násilí na dětech a mladých lidech a na jiných ohrožených skupinách, jako jsou LGBTIQ osoby a osoby se zdravotním postižením, a jejich potírání;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3) podpora a ochrana všech přímých a nepřímých obětí forem násilí, například obětí domácího násilí páchaného v rámci rodiny nebo v rámci intimních vztahů, včetně dětí osiřelých v důsledku trestných činů spáchaných v domácím prostředí, a na podporu a zajištění stejné úrovně ochrany pro oběti genderově podmíněného násilí v celé Unii.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6680" y="2492280"/>
            <a:ext cx="7951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ek 12" descr=""/>
          <p:cNvPicPr/>
          <p:nvPr/>
        </p:nvPicPr>
        <p:blipFill>
          <a:blip r:embed="rId2"/>
          <a:stretch/>
        </p:blipFill>
        <p:spPr>
          <a:xfrm>
            <a:off x="5651640" y="743040"/>
            <a:ext cx="316836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2587320"/>
            <a:ext cx="80960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Výzva k předkládání návrhů na prevenci a boj proti genderově podmíněnému násilí a násilí na dětech</a:t>
            </a:r>
            <a:r>
              <a:rPr b="1" lang="cs-CZ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Cíle</a:t>
            </a: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: bojovat proti násilí, včetně násilí na základě pohlaví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1. předcházení všem formám násilí na ženách a dívkách a domácímu násilí a boj proti nim na všech úrovních, včetně prosazování standardů stanovených v Úmluvě Rady Evropy o prevenci a boji proti násilí na ženách a domácímu násilí;</a:t>
            </a: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2. prevence a potírání všech forem násilí na dětech, mladých lidech a dalších ohrožených skupinách, jako jsou LGBTQI osoby a osoby se zdravotním postižením;</a:t>
            </a: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3. podpora a ochrana všech přímých a nepřímých obětí forem násilí uvedených v bodech 1 a 2, jako jsou oběti domácího násilí páchaného v rodině nebo v intimních vztazích, včetně dětí osiřelých v důsledku domácí trestné činnosti a podpora a zajištění stejné úrovně ochrany v celé Unii pro oběti násilí založeného na pohlaví.</a:t>
            </a:r>
            <a:br>
              <a:rPr sz="1600"/>
            </a:br>
            <a:r>
              <a:rPr b="0" lang="cs-CZ" sz="1600" spc="-1" strike="noStrike">
                <a:solidFill>
                  <a:srgbClr val="000099"/>
                </a:solidFill>
                <a:latin typeface="Arial"/>
                <a:ea typeface="Arial"/>
              </a:rPr>
              <a:t>základě rasového nebo etnického původu, náboženství nebo barvy pleti, jakož i na základě sexuální orientace, genderové identity, genderového vyjádření nebo sexuálních charakteristik.</a:t>
            </a:r>
            <a:br>
              <a:rPr sz="1600"/>
            </a:br>
            <a:br>
              <a:rPr sz="1600"/>
            </a:br>
            <a:r>
              <a:rPr b="1" lang="cs-CZ" sz="1800" spc="-1" strike="noStrike">
                <a:solidFill>
                  <a:srgbClr val="000099"/>
                </a:solidFill>
                <a:latin typeface="Arial"/>
                <a:ea typeface="Arial"/>
              </a:rPr>
              <a:t>Celková alokace: </a:t>
            </a:r>
            <a:r>
              <a:rPr b="0" lang="cs-CZ" sz="1400" spc="-1" strike="noStrike">
                <a:solidFill>
                  <a:srgbClr val="000099"/>
                </a:solidFill>
                <a:latin typeface="Arial"/>
                <a:ea typeface="Arial"/>
              </a:rPr>
              <a:t>30 500 000 EUR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300720" y="5645160"/>
            <a:ext cx="100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8000" y="2060640"/>
            <a:ext cx="468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atka_A5_negativ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179280" y="1628640"/>
            <a:ext cx="8672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28520" y="2637000"/>
            <a:ext cx="8886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93720" y="2505240"/>
            <a:ext cx="79516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49360" y="3500280"/>
            <a:ext cx="86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719280" y="4076640"/>
            <a:ext cx="8886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ek 12" descr=""/>
          <p:cNvPicPr/>
          <p:nvPr/>
        </p:nvPicPr>
        <p:blipFill>
          <a:blip r:embed="rId2"/>
          <a:stretch/>
        </p:blipFill>
        <p:spPr>
          <a:xfrm>
            <a:off x="5649840" y="393840"/>
            <a:ext cx="3168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2:36:32Z</dcterms:created>
  <dc:creator>hamplova</dc:creator>
  <dc:description/>
  <dc:language>en-US</dc:language>
  <cp:lastModifiedBy>Šafařík Radan</cp:lastModifiedBy>
  <cp:lastPrinted>2013-10-11T08:05:40Z</cp:lastPrinted>
  <dcterms:modified xsi:type="dcterms:W3CDTF">2021-12-21T13:51:50Z</dcterms:modified>
  <cp:revision>457</cp:revision>
  <dc:subject/>
  <dc:title>Název prezentace</dc:title>
</cp:coreProperties>
</file>