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8EB-FDFB-45B4-BA04-8AEA8C6220E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D972-245E-4D7E-BAFF-5A37E0B1B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1107-EB17-4B8F-B415-B3A009173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680-B6CD-4BF2-ADBC-A23A3E58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089-559F-4C8A-AAD9-36B3DCBD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04E-CB2B-4F29-9F28-3D0B2A57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BE9-1243-429E-B004-F68B775F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1AD78-C6C9-44D3-A264-0E89BA36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584CA-2878-437A-B6C0-BD1A1CE2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0F80F-AA1C-4C6F-8989-42511BE2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5DE5B-2AF0-4C2A-8DE7-BD908752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52EF-B0CA-4AE1-9C70-32EEA085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299E-99A4-4F7A-91F6-70B6F563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B9B9-8F19-4012-B65E-F1A35B26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2E92-2202-4BF8-9F54-BB45859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CCB6-1789-4099-AB23-304660B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0090-74AB-4766-95E2-40A3E18D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DC326-C18A-4378-8389-1F31ADB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21790-944B-4E1B-A53F-474F8910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BD786-E079-4A20-8F44-293FCD92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CED2-4538-401D-A908-A709960F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E19A-3AD3-4508-83D7-F7A23BC1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77B6-239D-4D6C-A873-70BF4CA5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575C-7078-4DA4-B2DE-6AFD34F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A604-0E91-4D5E-A204-BCE760FB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D74A-9379-4FB0-8EEA-3911F821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E0A-8B49-4C89-8079-5897D5CF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4367-F0DA-48FA-B238-082490C9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EF4D-928C-42FB-8F16-773AFE0F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84D0-CC93-4653-AB25-6FE7CCAB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EB00-1C49-4CBE-ADD3-626711A4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1E6B-CB6B-4A94-81E9-921BDE47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0E96-5EFE-4C27-87D2-E9ABE3C6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ABDE-E0AC-42CB-A1B7-DD0B52C2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21EF-E689-49DA-BDCC-EC6F4963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E278-F973-4B73-916E-CEC4DE51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BFDC6-7CED-484B-8855-62A70B63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307-65B4-4336-9223-16F0E312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0BFD-DEA6-40DD-AB5F-794507EB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9F59-5FFA-4503-88F7-73AC221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15B2-5B80-47F6-9A69-3AFB4155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50D9-F1A8-46D6-A03E-96C2932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A938-695C-40CA-897F-9ABE981B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E519-34D0-44AF-9342-FFDF29F3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0781-7E43-4AD8-9005-128AAB3E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3FA1-C690-46F9-9AE0-D4C63E44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EFEF-E02A-4372-A217-4695DC2E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BE5D-6A0B-426A-8C01-3295DF9A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DF1-0ADC-466C-B3C1-0BC817EC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55685-88B8-4782-80FB-30932D64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3CB5-6770-46AB-8CF1-F8B30BE2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0016-719A-485F-AA4C-FAD1AD8F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AE2D-B61E-4E4D-800E-AB96ACD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3E29-B003-475E-B9E3-DC9B3178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1528-CC43-4AB5-A18D-DAC6B616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553A3-12D6-4272-A80B-AB3278EA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705F-0B6B-419D-8B93-A755B0CB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D672-2943-474D-905A-B61423C4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1AE-8222-4100-942B-DFAB7775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927-E06A-413E-8C2E-8580F869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902-9651-4E2C-8167-3321CF1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6D3-E7D1-46FB-912A-082E499D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673-1436-48B2-B99A-46042586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4E19-F3A3-4AC7-9643-2A04D57BA88E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805-9000-4566-B17A-B09FD2E6ED47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8"/>
          <p:cNvSpPr/>
          <p:nvPr/>
        </p:nvSpPr>
        <p:spPr>
          <a:xfrm>
            <a:off x="-27000" y="0"/>
            <a:ext cx="5003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252360" y="241200"/>
            <a:ext cx="4444920" cy="588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414360" y="1825560"/>
            <a:ext cx="11363400" cy="503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209B-B8C3-4AA2-978D-498071A2E0A0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D56B-FDBF-4B56-BAF2-46E4221664C5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8724960" y="365040"/>
            <a:ext cx="3035160" cy="622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331920"/>
            <a:ext cx="8572680" cy="62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4300560"/>
            <a:ext cx="12192120" cy="18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3"/>
          <a:stretch/>
        </p:blipFill>
        <p:spPr>
          <a:xfrm>
            <a:off x="7861320" y="4287960"/>
            <a:ext cx="2806560" cy="187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>
            <a:off x="-905040" y="674640"/>
            <a:ext cx="4019760" cy="2984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8FF6-E1FF-48B4-BEBF-B8CB9BCC48F1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4E07-C517-4AC9-A087-3BC5D27FB7E8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14360" y="1825560"/>
            <a:ext cx="11363400" cy="503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A20E-1341-4796-8CA6-8976106037D5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F1E5-C5FE-4D2E-9257-1A19DD63A973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1"/>
          <p:cNvGrpSpPr/>
          <p:nvPr/>
        </p:nvGrpSpPr>
        <p:grpSpPr>
          <a:xfrm>
            <a:off x="482760" y="2346480"/>
            <a:ext cx="11214000" cy="1844640"/>
            <a:chOff x="482760" y="2346480"/>
            <a:chExt cx="11214000" cy="1844640"/>
          </a:xfrm>
        </p:grpSpPr>
        <p:pic>
          <p:nvPicPr>
            <p:cNvPr id="129" name="Picture 6" descr=""/>
            <p:cNvPicPr/>
            <p:nvPr/>
          </p:nvPicPr>
          <p:blipFill>
            <a:blip r:embed="rId2"/>
            <a:stretch/>
          </p:blipFill>
          <p:spPr>
            <a:xfrm>
              <a:off x="482760" y="2346480"/>
              <a:ext cx="684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"/>
            <p:cNvPicPr/>
            <p:nvPr/>
          </p:nvPicPr>
          <p:blipFill>
            <a:blip r:embed="rId3"/>
            <a:stretch/>
          </p:blipFill>
          <p:spPr>
            <a:xfrm>
              <a:off x="11012400" y="3506760"/>
              <a:ext cx="684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"/>
            <p:cNvPicPr/>
            <p:nvPr/>
          </p:nvPicPr>
          <p:blipFill>
            <a:blip r:embed="rId4"/>
            <a:stretch/>
          </p:blipFill>
          <p:spPr>
            <a:xfrm>
              <a:off x="495360" y="3506760"/>
              <a:ext cx="684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9" descr=""/>
            <p:cNvPicPr/>
            <p:nvPr/>
          </p:nvPicPr>
          <p:blipFill>
            <a:blip r:embed="rId5"/>
            <a:stretch/>
          </p:blipFill>
          <p:spPr>
            <a:xfrm>
              <a:off x="10999800" y="2346480"/>
              <a:ext cx="68436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12" descr=""/>
          <p:cNvPicPr/>
          <p:nvPr/>
        </p:nvPicPr>
        <p:blipFill>
          <a:blip r:embed="rId6"/>
          <a:stretch/>
        </p:blipFill>
        <p:spPr>
          <a:xfrm>
            <a:off x="0" y="465120"/>
            <a:ext cx="12188880" cy="322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3FA5-191A-453C-BDC7-9AAAFB39F2E8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D549-AC34-4AF0-9F37-D48A9238E1C5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617220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1436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"/>
          <p:cNvSpPr/>
          <p:nvPr/>
        </p:nvSpPr>
        <p:spPr>
          <a:xfrm>
            <a:off x="617220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414360" y="1825560"/>
            <a:ext cx="560556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414360" y="365040"/>
            <a:ext cx="1136340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520560" y="15876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11010960" y="148428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520560" y="148428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5"/>
          <a:stretch/>
        </p:blipFill>
        <p:spPr>
          <a:xfrm>
            <a:off x="11010960" y="15876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6"/>
          <a:stretch/>
        </p:blipFill>
        <p:spPr>
          <a:xfrm>
            <a:off x="0" y="6269040"/>
            <a:ext cx="12188880" cy="322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2"/>
          <p:cNvSpPr/>
          <p:nvPr/>
        </p:nvSpPr>
        <p:spPr>
          <a:xfrm>
            <a:off x="812880" y="0"/>
            <a:ext cx="10362960" cy="6858000"/>
          </a:xfrm>
          <a:prstGeom prst="rect">
            <a:avLst/>
          </a:prstGeom>
          <a:blipFill rotWithShape="0">
            <a:blip r:embed="rId2">
              <a:alphaModFix amt="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3"/>
          <a:stretch/>
        </p:blipFill>
        <p:spPr>
          <a:xfrm>
            <a:off x="-6016680" y="210960"/>
            <a:ext cx="7220160" cy="2446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4"/>
          <a:stretch/>
        </p:blipFill>
        <p:spPr>
          <a:xfrm>
            <a:off x="10988640" y="4200480"/>
            <a:ext cx="7220160" cy="24465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-27000" y="0"/>
            <a:ext cx="5003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52360" y="241200"/>
            <a:ext cx="4444920" cy="588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safarik.radan@vlada.cz" TargetMode="External"/><Relationship Id="rId2" Type="http://schemas.openxmlformats.org/officeDocument/2006/relationships/hyperlink" Target="mailto:hradecka.lucie@vlada.cz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166920" y="674640"/>
            <a:ext cx="750096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Strategie rovnosti žen a mužů na léta 2021 - 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523880" y="1854000"/>
            <a:ext cx="91440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295e"/>
                </a:solidFill>
                <a:latin typeface="Helvetica Neue"/>
              </a:rPr>
              <a:t>Radan Šafař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295e"/>
                </a:solidFill>
                <a:latin typeface="Helvetica Neue"/>
              </a:rPr>
              <a:t>Odbor rovnosti žen a mužů, Úřad vlády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5" descr="Úřad vlády České republiky - kariéra, práce, volná místa | VímVíc.cz"/>
          <p:cNvPicPr/>
          <p:nvPr/>
        </p:nvPicPr>
        <p:blipFill>
          <a:blip r:embed="rId1"/>
          <a:stretch/>
        </p:blipFill>
        <p:spPr>
          <a:xfrm>
            <a:off x="7870680" y="3579840"/>
            <a:ext cx="279720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Kapitola Bezpeč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1.2.5 Zavést mechanismus potírání šikany, sexuálního obtěžování ap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Obrázek 1" descr=""/>
          <p:cNvPicPr/>
          <p:nvPr/>
        </p:nvPicPr>
        <p:blipFill>
          <a:blip r:embed="rId2"/>
          <a:stretch/>
        </p:blipFill>
        <p:spPr>
          <a:xfrm>
            <a:off x="1592280" y="1893960"/>
            <a:ext cx="3160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Kapitola Společ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7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c114a"/>
                </a:solidFill>
                <a:latin typeface="Helvetica Neue"/>
              </a:rPr>
              <a:t>1.1.6 Informovat o ženách a mužích úspěšných v oborech, které jsou z genderového hlediska považovány za atypick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lnSpc>
                <a:spcPct val="7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c114a"/>
                </a:solidFill>
                <a:latin typeface="Helvetica Neue"/>
              </a:rPr>
              <a:t>2.1.3 Vysvětlovat veřejnosti přínos konkrétních opatření a věcných politik pro rovnost žen a muž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lnSpc>
                <a:spcPct val="7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c114a"/>
                </a:solidFill>
                <a:latin typeface="Helvetica Neue"/>
              </a:rPr>
              <a:t>4.4.2 Zahrnovat NNO do přípravy a realizace veřejných polit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Obrázek 2" descr=""/>
          <p:cNvPicPr/>
          <p:nvPr/>
        </p:nvPicPr>
        <p:blipFill>
          <a:blip r:embed="rId4"/>
          <a:stretch/>
        </p:blipFill>
        <p:spPr>
          <a:xfrm>
            <a:off x="1604880" y="1905120"/>
            <a:ext cx="3137040" cy="44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Kapitola Vnější vzt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255960" indent="-25596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1.1.3 Uplatňovat hledisko rovnosti žen a mužů v materiálech na evropské a mezinárodní úrovn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960" indent="-25596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960" indent="-25596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1.2.1 Definovat podporu genderové rovnosti jako téma na bilaterální úrov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Obrázek 1" descr=""/>
          <p:cNvPicPr/>
          <p:nvPr/>
        </p:nvPicPr>
        <p:blipFill>
          <a:blip r:embed="rId4"/>
          <a:stretch/>
        </p:blipFill>
        <p:spPr>
          <a:xfrm>
            <a:off x="1644480" y="1886040"/>
            <a:ext cx="3254400" cy="45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Kapitola Instit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c114a"/>
                </a:solidFill>
                <a:latin typeface="Helvetica Neue"/>
              </a:rPr>
              <a:t>1.1.4 zastoupení všech ministerstev v RVRŽ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c114a"/>
                </a:solidFill>
                <a:latin typeface="Helvetica Neue"/>
              </a:rPr>
              <a:t>1.4.1 + 1.4.2 gender mainstreaming při tvorbě a naplňování veřejných polit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c114a"/>
                </a:solidFill>
                <a:latin typeface="Helvetica Neue"/>
              </a:rPr>
              <a:t>2.1.1 plný úvazek na agendu rovnosti žen a muž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Obrázek 1" descr=""/>
          <p:cNvPicPr/>
          <p:nvPr/>
        </p:nvPicPr>
        <p:blipFill>
          <a:blip r:embed="rId6"/>
          <a:stretch/>
        </p:blipFill>
        <p:spPr>
          <a:xfrm>
            <a:off x="1749600" y="1865160"/>
            <a:ext cx="317808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Kapitola Instit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2.2.1 provázat činnost rezortních pracovních skupin s úkoly strate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2.2.2 pracovní skupiny vede představený/ představen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2.2.3 školení v oblasti genderové rov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Obrázek 1" descr=""/>
          <p:cNvPicPr/>
          <p:nvPr/>
        </p:nvPicPr>
        <p:blipFill>
          <a:blip r:embed="rId4"/>
          <a:stretch/>
        </p:blipFill>
        <p:spPr>
          <a:xfrm>
            <a:off x="1749600" y="1865160"/>
            <a:ext cx="317808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Kapitola Instit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lnSpc>
                <a:spcPct val="8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2.4.1 školení o genderové rovnosti ve vstupním vzdělávání úvodn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8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2.5.1 využívání metodiky pro hodnocení dopadů na rovnost žen a muž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8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3.1.4 zvážení podání projektu v rámci OPZ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80000"/>
              </a:lnSpc>
              <a:spcBef>
                <a:spcPts val="1001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3.4.1 rezortní dotační progra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Obrázek 1" descr=""/>
          <p:cNvPicPr/>
          <p:nvPr/>
        </p:nvPicPr>
        <p:blipFill>
          <a:blip r:embed="rId5"/>
          <a:stretch/>
        </p:blipFill>
        <p:spPr>
          <a:xfrm>
            <a:off x="1749600" y="1865160"/>
            <a:ext cx="317808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168360" y="674640"/>
            <a:ext cx="749916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c114a"/>
                </a:solidFill>
                <a:latin typeface="Helvetica Neue"/>
              </a:rPr>
              <a:t>Děkujeme za pozornost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523880" y="1854360"/>
            <a:ext cx="914400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e295e"/>
                </a:solidFill>
                <a:latin typeface="Helvetica Neue"/>
              </a:rPr>
              <a:t>Radan Šafařík, Lucie Hradeck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563c1"/>
                </a:solidFill>
                <a:uFillTx/>
                <a:latin typeface="Helvetica Neue"/>
                <a:hlinkClick r:id="rId1"/>
              </a:rPr>
              <a:t>safarik.radan@vlada.cz</a:t>
            </a:r>
            <a:r>
              <a:rPr b="0" lang="cs-CZ" sz="2200" spc="-1" strike="noStrike">
                <a:solidFill>
                  <a:srgbClr val="4e295e"/>
                </a:solidFill>
                <a:latin typeface="Helvetica Neue"/>
              </a:rPr>
              <a:t>, </a:t>
            </a:r>
            <a:r>
              <a:rPr b="0" lang="cs-CZ" sz="2200" spc="-1" strike="noStrike" u="sng">
                <a:solidFill>
                  <a:srgbClr val="0563c1"/>
                </a:solidFill>
                <a:uFillTx/>
                <a:latin typeface="Helvetica Neue"/>
                <a:hlinkClick r:id="rId2"/>
              </a:rPr>
              <a:t>hradecka.lucie@vlada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logo_uv.jpg" descr="logo_uv.jpg"/>
          <p:cNvPicPr/>
          <p:nvPr/>
        </p:nvPicPr>
        <p:blipFill>
          <a:blip r:embed="rId3"/>
          <a:stretch/>
        </p:blipFill>
        <p:spPr>
          <a:xfrm>
            <a:off x="8113680" y="2832120"/>
            <a:ext cx="2554200" cy="7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c114a"/>
                </a:solidFill>
                <a:latin typeface="Helvetica Neue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38080" y="2079360"/>
            <a:ext cx="10515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53d7a"/>
                </a:solidFill>
                <a:latin typeface="Helvetica Neue"/>
                <a:ea typeface="Leelawadee UI"/>
              </a:rPr>
              <a:t>1) Strategie rovnosti žen a mužů – způsob implementace a role Odboru rovnosti žen a muž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53d7a"/>
                </a:solidFill>
                <a:latin typeface="Helvetica Neue"/>
                <a:ea typeface="Leelawadee UI"/>
              </a:rPr>
              <a:t>2) Strategie rovnosti žen a mužů – klíčová opat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Strategie rovnosti žen a mužů na léta: shrnu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Zástupný symbol pro obsah 1" descr=""/>
          <p:cNvPicPr/>
          <p:nvPr/>
        </p:nvPicPr>
        <p:blipFill>
          <a:blip r:embed="rId1"/>
          <a:stretch/>
        </p:blipFill>
        <p:spPr>
          <a:xfrm>
            <a:off x="1693800" y="1865160"/>
            <a:ext cx="3328920" cy="46040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Schválena usnesením vlády ČR ze dne 8. března 2021 č. 2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Komplexní rámec pro prosazování genderové rov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8 kapitol, 26 strategických cílů, 124 specifických cílů a 434 opat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Způsob implementace – vládní úrove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c114a"/>
                </a:solidFill>
                <a:latin typeface="Helvetica Neue"/>
              </a:rPr>
              <a:t>Nové nastav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Implementační osnovy (nikoli akční plá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Indikátorová soust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Posílení role Rady vlády pro rovnost žen a muž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3188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c114a"/>
                </a:solidFill>
                <a:latin typeface="Helvetica Neue"/>
              </a:rPr>
              <a:t>Zůstá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Koordinační role ÚV Č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Každoroční zprávy o pl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Akční plány pro specifické oblasti (domácí násilí, zahraniční vztahy, nerovné odměňová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Způsob implementace – rezortní úrove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c114a"/>
                </a:solidFill>
                <a:latin typeface="Helvetica Neue"/>
              </a:rPr>
              <a:t>Praktická koordin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Zásadní role rezortních koordinátorek/koordinátorů rovnosti žen a mužů a pracovních skup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Financování – systémové projekty z OPZ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3188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c114a"/>
                </a:solidFill>
                <a:latin typeface="Helvetica Neue"/>
              </a:rPr>
              <a:t>Dokume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Rezortní strategie/akční plány/koncepce sloužící k plnění strate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Větší důraz na genderovou rovnost ve věcné poli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Role Odboru rovnosti žen a muž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114a"/>
                </a:solidFill>
                <a:latin typeface="Helvetica Neu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Konzultace k plnění strate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Spolupráce na přípravě rezortních strategií a na plnění úko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Spolupráce na vzdělá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114a"/>
                </a:solidFill>
                <a:latin typeface="Helvetica Neue"/>
              </a:rPr>
              <a:t>Spolupráce na přípravě projektu z OPZ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3188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c114a"/>
                </a:solidFill>
                <a:latin typeface="Helvetica Neue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Průběžné informace o plnění zásadních opatření (pro účely jednání RVRŽ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Výroční zprávy o plnění (implementační osnov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Obrázek 3" descr=""/>
          <p:cNvPicPr/>
          <p:nvPr/>
        </p:nvPicPr>
        <p:blipFill>
          <a:blip r:embed="rId1"/>
          <a:stretch/>
        </p:blipFill>
        <p:spPr>
          <a:xfrm>
            <a:off x="3441600" y="115920"/>
            <a:ext cx="456732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Kapitola Práce a péč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291360" y="2057040"/>
            <a:ext cx="50623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3.7.4 Zveřejňovat informace o GPG v orgánech obchodních společností s majetkovou účastí stá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3.7.5 Vést statistiky o GPG na úrovni rezor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Obrázek 1" descr=""/>
          <p:cNvPicPr/>
          <p:nvPr/>
        </p:nvPicPr>
        <p:blipFill>
          <a:blip r:embed="rId3"/>
          <a:stretch/>
        </p:blipFill>
        <p:spPr>
          <a:xfrm>
            <a:off x="1670040" y="1892160"/>
            <a:ext cx="325584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423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c114a"/>
                </a:solidFill>
                <a:latin typeface="Helvetica Neue"/>
              </a:rPr>
              <a:t>Kapitola Rozhod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291360" y="2057040"/>
            <a:ext cx="5270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1.3.1 Informovat o podpoře diverzity na ministerstv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1.3.3 Inzerce podporující diverzi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1.3.4 Genderově smíšené kom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c114a"/>
                </a:solidFill>
                <a:latin typeface="Helvetica Neue"/>
              </a:rPr>
              <a:t>1.3.5 Vést statistiky o uchazečích a uchazečká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lnSpc>
                <a:spcPct val="90000"/>
              </a:lnSpc>
              <a:spcBef>
                <a:spcPts val="1001"/>
              </a:spcBef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Obrázek 2" descr=""/>
          <p:cNvPicPr/>
          <p:nvPr/>
        </p:nvPicPr>
        <p:blipFill>
          <a:blip r:embed="rId6"/>
          <a:stretch/>
        </p:blipFill>
        <p:spPr>
          <a:xfrm>
            <a:off x="1581120" y="1874880"/>
            <a:ext cx="3349800" cy="457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9T10:54:44Z</dcterms:created>
  <dc:creator>Ondřej Holub</dc:creator>
  <dc:description/>
  <dc:language>en-US</dc:language>
  <cp:lastModifiedBy>Odbor rovnosti žen a mužů</cp:lastModifiedBy>
  <dcterms:modified xsi:type="dcterms:W3CDTF">2021-05-05T14:07:59Z</dcterms:modified>
  <cp:revision>85</cp:revision>
  <dc:subject/>
  <dc:title>PowerPoint Presentation</dc:title>
</cp:coreProperties>
</file>