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5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993600" y="732960"/>
            <a:ext cx="487080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459B-20CE-461E-9D1F-5A06D63C82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4C4C-26E0-47DE-A9F2-C63C8F7789C5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A36-46EB-4324-8A6A-9F92414D16FC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696E-4E54-434F-AF36-CE7B8622E10D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612-B68A-41C2-9D30-DE8EE2EA4307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55E-D281-40B0-8EC3-41F221E713E5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9DA-DA69-434A-938E-CD91BDD07CDF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DA0-C0C2-4B47-88D3-5E90A1001D5A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B93-07D8-4EF3-BA5F-70CC4433F79E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F6E-78E5-4641-B42F-BECD109E4FF4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1B4-41FD-4F2C-82EF-24D71F818C79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94A-4550-42A1-B79D-DF05D6604E0E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0D1E-6FDD-44B9-AD27-86F304961A83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2120"/>
            <a:ext cx="4870440" cy="3652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2412-AB6A-4FDC-8B7A-BBF62B03905C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izuální gra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6F92-03C3-4C51-B8ED-C6374F289530}" type="slidenum">
              <a:rPr b="0" lang="cs-CZ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3600" y="733320"/>
            <a:ext cx="4870800" cy="3652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304920" y="4573440"/>
            <a:ext cx="62532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DCA-CAE1-4AF9-9F52-28EF5C68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305-ECE5-4CEF-83A1-5257EC97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9AE-A90A-43AA-8E17-224BA533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D38-1365-44E6-A2B2-2C04AAD3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378-8061-4E27-A32F-D5E5064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AB5-2BB8-4D08-ABF1-BACD7B4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1112-5F7C-4BA2-ABFD-1EFE78F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E2E0-661A-4D43-A614-7C2716A2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C3C4-6EFE-44D8-9662-5E69A15B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49D-6C03-49D1-8775-EBEEB17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A036-4059-4350-8BE8-8C854D77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173-8130-435C-B7F5-3EF37A1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2C0C-00D1-4240-B781-40BD57B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C0E8-310D-4AEE-A3F4-64B5ADB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554-BE17-417A-9A63-155569A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3E35-39E0-4A96-B5C0-7BE330D6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BEE1-1DC3-43F5-AE6B-7A1EE620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C95-3E03-4441-AD67-32519B26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108-F1A3-4C4B-AAE6-B4859B0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1F2-5810-4A65-9CD0-0017577C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14C-3F77-433E-9DAF-68889A7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3E5-2026-4A53-9EF3-6AD1BC8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612-6AC0-4E5D-BC69-26B226F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190-2A51-4AF4-9189-DF38D23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8BE1-1ED0-409F-8E17-7F20DE5A8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BF38-E6B4-4421-822C-1C07655C93AA}" type="slidenum">
              <a:rPr b="0" lang="cs-CZ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9797b7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Lucida Casual CE"/>
              </a:rPr>
              <a:t>      </a:t>
            </a:r>
            <a:r>
              <a:rPr b="0" lang="cs-CZ" sz="3200" spc="-1" strike="noStrike">
                <a:solidFill>
                  <a:srgbClr val="660066"/>
                </a:solidFill>
                <a:latin typeface="Lucida Casual CE"/>
              </a:rPr>
              <a:t>Prosazování rovných příležitostí žen a mužů v rezortu Ministerstva obrany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80880" y="3728520"/>
            <a:ext cx="8229600" cy="1909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Rada vlády pro rovné příležitosti žen a mužů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29. května 2012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990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cc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Počty mužů a žen zařazených v dispozici dle zákona o vojácích z povolání § 10 – MD, R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0" y="1676520"/>
          <a:ext cx="8915400" cy="46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9154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Obsazenost vedoucích systemizovaných míst VZP - AČR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0" y="1600200"/>
          <a:ext cx="9144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0" y="380880"/>
          <a:ext cx="91440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1026"/>
          <p:cNvGraphicFramePr/>
          <p:nvPr/>
        </p:nvGraphicFramePr>
        <p:xfrm>
          <a:off x="0" y="914400"/>
          <a:ext cx="9144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545472"/>
                </a:solidFill>
                <a:latin typeface="Tahoma"/>
              </a:rPr>
              <a:t>Zahraniční mírové operace</a:t>
            </a:r>
            <a:r>
              <a:rPr b="0" lang="cs-CZ" sz="4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88" name="Object 1032"/>
          <p:cNvGraphicFramePr/>
          <p:nvPr/>
        </p:nvGraphicFramePr>
        <p:xfrm>
          <a:off x="247680" y="1714680"/>
          <a:ext cx="847728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1714680"/>
                    <a:ext cx="847728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9595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Rozdíl v průměrném platu žen a mužů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228600" y="1523880"/>
          <a:ext cx="83059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305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5"/>
          <p:cNvGraphicFramePr/>
          <p:nvPr/>
        </p:nvGraphicFramePr>
        <p:xfrm>
          <a:off x="0" y="2185920"/>
          <a:ext cx="9144000" cy="4291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85920"/>
                    <a:ext cx="914400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Jaké další úkoly nás čekají ?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618320" cy="114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66"/>
                </a:solidFill>
                <a:latin typeface="Tahoma"/>
              </a:rPr>
              <a:t>Rezortní opatření k prosazování rovného přístupu k ženám a mužům</a:t>
            </a: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vnitřní předpis - rozkaz MO č. 29/2002  „Prosazování rovnosti mužů a žen v působnosti MO“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dokument „Priority a postupy resortu MO při prosazování principu rovných příležitostí mužů a žen“ – každoročně aktualizován v souladu s příslušným usnesením vlády (programový dokument vlády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služební pomůcka „Rovné zacházení s muži a ženami“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54547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rogramové cíle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39625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genderová kvantitativní analýza </a:t>
            </a:r>
            <a:br>
              <a:rPr sz="3200"/>
            </a:b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postoje vojenských profesionálů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cs-CZ" sz="3200" spc="-1" strike="noStrike">
                <a:solidFill>
                  <a:srgbClr val="545472"/>
                </a:solidFill>
                <a:latin typeface="Tahoma"/>
              </a:rPr>
              <a:t>a profesionálek</a:t>
            </a:r>
            <a:r>
              <a:rPr b="0" lang="cs-CZ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íl zaměstnaných žen (služební/pracovní poměr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69056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51" name="Object 10"/>
          <p:cNvGraphicFramePr/>
          <p:nvPr/>
        </p:nvGraphicFramePr>
        <p:xfrm>
          <a:off x="0" y="1619280"/>
          <a:ext cx="9182160" cy="523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19280"/>
                    <a:ext cx="9182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96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Vývoj počtů vojákyň od roku 1999</a:t>
            </a:r>
            <a:br>
              <a:rPr sz="2400"/>
            </a:br>
            <a:r>
              <a:rPr b="1" lang="cs-CZ" sz="2400" spc="-1" strike="noStrike">
                <a:solidFill>
                  <a:srgbClr val="545472"/>
                </a:solidFill>
                <a:latin typeface="Arial CE"/>
              </a:rPr>
              <a:t> (k 1.1. ; 15. 1. )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10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325080"/>
            <a:ext cx="8610480" cy="74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9797b7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66"/>
                </a:solidFill>
                <a:latin typeface="Tahoma"/>
              </a:rPr>
              <a:t>A jak se daří ženám při výběru/náboru do AČR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7" name="Object 20"/>
          <p:cNvGraphicFramePr/>
          <p:nvPr/>
        </p:nvGraphicFramePr>
        <p:xfrm>
          <a:off x="0" y="1523880"/>
          <a:ext cx="5310360" cy="301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531036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1"/>
          <p:cNvGraphicFramePr/>
          <p:nvPr/>
        </p:nvGraphicFramePr>
        <p:xfrm>
          <a:off x="4267080" y="3886200"/>
          <a:ext cx="4267440" cy="2971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0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388620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c7c7d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 t u d u j í c í   -  vojenské škol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343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5" name="Object 39"/>
          <p:cNvGraphicFramePr/>
          <p:nvPr/>
        </p:nvGraphicFramePr>
        <p:xfrm>
          <a:off x="0" y="1447920"/>
          <a:ext cx="9144000" cy="4876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6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487080"/>
            <a:ext cx="86374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odíly studujících SŠ – srovnání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49092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69" name="Object 10"/>
          <p:cNvGraphicFramePr/>
          <p:nvPr/>
        </p:nvGraphicFramePr>
        <p:xfrm>
          <a:off x="0" y="1165320"/>
          <a:ext cx="4191120" cy="241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65320"/>
                    <a:ext cx="419112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32958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2" name="Object 12"/>
          <p:cNvGraphicFramePr/>
          <p:nvPr/>
        </p:nvGraphicFramePr>
        <p:xfrm>
          <a:off x="3295800" y="2610000"/>
          <a:ext cx="5086080" cy="3263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5800" y="2610000"/>
                    <a:ext cx="508608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27"/>
          <p:cNvSpPr/>
          <p:nvPr/>
        </p:nvSpPr>
        <p:spPr>
          <a:xfrm>
            <a:off x="28335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5" name="Object 1026"/>
          <p:cNvGraphicFramePr/>
          <p:nvPr/>
        </p:nvGraphicFramePr>
        <p:xfrm>
          <a:off x="1219320" y="685800"/>
          <a:ext cx="739116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7391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12:32Z</dcterms:created>
  <dc:creator>jonitova</dc:creator>
  <dc:description/>
  <dc:language>en-US</dc:language>
  <cp:lastModifiedBy>Lucia Zachariášová JUDr.</cp:lastModifiedBy>
  <cp:lastPrinted>2000-05-22T08:02:26Z</cp:lastPrinted>
  <dcterms:modified xsi:type="dcterms:W3CDTF">2012-05-29T06:57:32Z</dcterms:modified>
  <cp:revision>240</cp:revision>
  <dc:subject/>
  <dc:title>Vnímání rovnosti  vojáky a vojákyněmi  Armády České republiky</dc:title>
</cp:coreProperties>
</file>