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F23-4A97-415B-9F5E-E1355421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878-6AF4-4B90-A880-51DF7423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F2E-3E9D-4479-B4A5-AF116CE0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AF3-B222-41DB-BF04-E412DD44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E76-709B-4560-8775-EE0BDBC7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091-553F-4428-B47D-F734D97C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849-0CBD-4185-8B9A-B82D49A3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FF2-0A0B-4047-9BEE-9EAC6518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C5B-6A3C-4282-AF3A-BBE3726C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2CE-8D72-41DA-BF67-9C88E66F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171-43E2-4015-B091-5B06A05A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2B7-6C99-4F39-BFC0-65D3131B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1D6A-A521-4D26-9DDC-3EA6902228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rodní péče v České republice  a cesta ke změn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éla Hořej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9.5.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éla Hořejš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ela.horejsi@horejsilegal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Cíl České ženské lob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á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ských prá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orodnic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vobodná volb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skytovatele péč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ní i faktické narovná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stave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rodní asistent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Současná péče v porodnictv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 období těhotenství, porodu a šestinedělí poskytují zdravotní péči fakticky pouze lékař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ominuje biotechnický přístup-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žena i dítě jsou objektem péč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éče j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o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zohledňuje individuální potřeby matky a dítě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rah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tavena na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evenčně intervenčních zásazích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nástřih, umělé vyvolání porodu, separace dítěte)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teré mají dle WHO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škodlivo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vahu a vedou k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oruchá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fyzického a psychického zdraví matky i dítěte, které je pak třeba následně hojit kompenzačními mechanis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920" y="5486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Žena nemá reálnou možnost zvolit si nelékařského poskytovatele péče, ani není o této možnosti informová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57200" y="5638680"/>
            <a:ext cx="838188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rodní asistent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VŠ vzdělaná zdravotnice, která má zákonné právo poskytovat péči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samostatně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, tedy bez indikace a dohledu lékař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měla by být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primárním, hlavním poskytovatelem péč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je způsobilá poskytovat péči ženám s fyziologickým těhotenstvím, při fyziologickém porodu a ženám i novorozencům v šestinedělí, tedy např.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vyšetřovat ženu a plod v těhotenstv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vést fyziologické porod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pečovat o matku i novorozence v šestineděl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rozpoznávat abnormality od fyziologického stavu a v tomto případě doporučit ženě lékařskou péč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kompetence, které porodním asistentkám stanoví zákon, nemohou vykonávat v české prax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0880" y="54864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le WHO i výzkumů j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éče P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nejbezpečnějš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o zdravou matku i dítě bez ohledu na místo porod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5486400"/>
            <a:ext cx="8382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Bezpečnost péče v Č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voří se o vysoce bezpečném porodnic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 příčinné souvislosti se dává bezpečnost a lékařská péč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al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novorozenecká úmrtno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ČR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rovnatel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e západními zeměmi, kde je péče PA součástí zdravotního systém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ateřská úmrtnost v ČR řádově horš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než v ostatních západních zemích (v ČR 15- 18 zemřelých v souvislosti s porodem/100.000 porodů oproti 5 v západní Evropě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rod v domácím prostřed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ulgarizace, bulvarizace a zjednodušování téma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ánovaný porod v domácím prostře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 přítomnosti PA je dle výzkumů pro zdravou rodičku z hlediska fatalit následků pro ni i pro dít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ě bezpečný jako porod v porod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hlediska ostatních zdravotních poškození je pro matku i dít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ezpečnějš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dochází intervencím do poro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ítě se snáze adapt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ítě méně často potřebuje resuscitační po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de o místo, ale o typ péč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0880" y="5486400"/>
            <a:ext cx="83822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rávo porodních asistentek na výkon povolání v plném zákonném rozsahu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péče samostatných porodních asistentek je vytlačena ze zdravotního systému a jejich povolání je již od 50. let systematicky likvidová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v současnosti sice existuje zákonný rámec jejich právního postavení, al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reálně nemohou svou profesi vykonáva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, neboť MZ nastavilo nepřiměřené a nesplnitelné podmínky věcného, technického i personálního vybavení pro výkon jejich povolání,  porodní asistentky tak nedostanou oprávnění k výkonu povolání v plném rozsa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PA nejsou ani včleněny do systému veřejného zdravotního pojištění, je jim přiznán pouze jediný výkon (návštěvy v šestinedělí), pro nějž pojišťovny navíc nezákonně žádají indikaci lékaře. Tyto indikace lékaři neposkytují, vyjma Zlínského kraje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diskrimin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V současné době není v České republice ani jedna porodní asistentka, která by měla oprávnění k výkonu svého povolání v plném zákonném rozsahu svých kompetencí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5334120"/>
            <a:ext cx="838188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Právo na soukromý a rodinný život a právo žen na svobodnou volbu porodní péč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zahrnuje právo na svobodnou volbu poskytovatele a způsobu porodní péče, tomu odpovídá povinnost státu zajistit pro realizaci této volby právní a institucionální podmín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Směrnice Rady EU 80/155/E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Směrnice Rady 36/2005/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rozhodnutí Evropského soudu pro lidská práva ve věci Ternovzsky v. 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rozhodnutí českých sou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Stát má povinnost zajistit podmínky pro realizaci volby poskytovatele a způsobu porodní péč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5410080"/>
            <a:ext cx="8382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Nabídka péče porodních asistentek- měřítko demokrac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9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68468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52280" y="55627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kol pro MZ-                                                                    právní a faktické narovnání postavení porodní asistentky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80880" y="5562720"/>
            <a:ext cx="838224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20:25:05Z</dcterms:created>
  <dc:creator>Tvarda Team</dc:creator>
  <dc:description/>
  <dc:language>en-US</dc:language>
  <cp:lastModifiedBy>Lucia Zachariášová JUDr.</cp:lastModifiedBy>
  <dcterms:modified xsi:type="dcterms:W3CDTF">2012-05-28T09:27:51Z</dcterms:modified>
  <cp:revision>7</cp:revision>
  <dc:subject/>
  <dc:title>Porodní péče v České republice  a cesta ke změně</dc:title>
</cp:coreProperties>
</file>