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A5A32-C9BE-4F43-86CF-E5321F129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17335-00CF-4A86-B3A8-F2730C2A2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D2BC4-5E1C-48B8-87E3-7E994AF4E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44651-A034-4CFA-9E94-895EEDA8F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5A9FD-B43D-4C19-A9B0-5191EEFFA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79EF4-E5EC-4DEA-B13F-8293A1DA2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2D25E-17C3-4603-AF07-E4633A8B3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8A825-7DC4-40D8-9424-911948751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73BE2-67AF-40BD-8BE6-DC916E647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B98EA-65A4-4616-8D21-D373024C1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E0A4A-4440-4F6F-80C9-189378E0E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77847-970A-44B5-85FE-2A28D8D661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B4F7B-FFA0-4447-B72E-41349F413D92}" type="datetime">
              <a:rPr b="0" lang="cs-CZ" sz="1200" spc="-1" strike="noStrike">
                <a:solidFill>
                  <a:srgbClr val="898989"/>
                </a:solidFill>
                <a:latin typeface="Calibri"/>
              </a:rPr>
              <a:t>30.07.2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Jana Levová                                      Intervenční centrum Brno </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7D7AE-8FA8-4C3E-A114-514787822418}" type="slidenum">
              <a:rPr b="0" lang="cs-C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domaci-nasili.cz/"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Obdélník 2"/>
          <p:cNvSpPr/>
          <p:nvPr/>
        </p:nvSpPr>
        <p:spPr>
          <a:xfrm>
            <a:off x="468360" y="1700280"/>
            <a:ext cx="8280360" cy="411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ýzkum byl zpracován společností SocioFactor v rámci projektu </a:t>
            </a:r>
            <a:endParaRPr b="0" lang="en-US" sz="24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t>
            </a:r>
            <a:r>
              <a:rPr b="0" lang="cs-CZ" sz="2400" spc="-1" strike="noStrike">
                <a:solidFill>
                  <a:srgbClr val="000000"/>
                </a:solidFill>
                <a:latin typeface="Arial"/>
              </a:rPr>
              <a:t>Zlepšení praxe při prevenci, identifikaci a potírání domácího násilí prostřednictvím specializace“ podpořeného Nadací Open Society Fund Praha z programu Dejme (že)nám šanci, </a:t>
            </a:r>
            <a:br>
              <a:rPr sz="2400"/>
            </a:br>
            <a:r>
              <a:rPr b="0" lang="cs-CZ" sz="2400" spc="-1" strike="noStrike">
                <a:solidFill>
                  <a:srgbClr val="000000"/>
                </a:solidFill>
                <a:latin typeface="Arial"/>
              </a:rPr>
              <a:t>který je financován z Norských fondů  a je určen pro potřeby Asociace pracovníků intervenčních center ČR.</a:t>
            </a:r>
            <a:endParaRPr b="0" lang="en-US" sz="24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ublikace je volně ke stažení z webu </a:t>
            </a:r>
            <a:r>
              <a:rPr b="0" lang="cs-CZ" sz="2400" spc="-1" strike="noStrike" u="sng">
                <a:solidFill>
                  <a:srgbClr val="00a3d6"/>
                </a:solidFill>
                <a:uFillTx/>
                <a:latin typeface="Arial"/>
                <a:hlinkClick r:id="rId1"/>
              </a:rPr>
              <a:t>www.domaci-nasili.cz</a:t>
            </a:r>
            <a:r>
              <a:rPr b="0" lang="cs-CZ" sz="2400" spc="-1" strike="noStrike">
                <a:solidFill>
                  <a:srgbClr val="000000"/>
                </a:solidFill>
                <a:latin typeface="Arial"/>
              </a:rPr>
              <a:t> (AP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Kvantitativní část – výzkum veřejného mínění</a:t>
            </a:r>
            <a:br>
              <a:rPr sz="2800"/>
            </a:br>
            <a:endParaRPr b="0" lang="en-US" sz="2800" spc="-1" strike="noStrike">
              <a:solidFill>
                <a:srgbClr val="000000"/>
              </a:solidFill>
              <a:latin typeface="Calibri"/>
            </a:endParaRPr>
          </a:p>
        </p:txBody>
      </p:sp>
      <p:sp>
        <p:nvSpPr>
          <p:cNvPr id="43" name=""/>
          <p:cNvSpPr txBox="1"/>
          <p:nvPr/>
        </p:nvSpPr>
        <p:spPr>
          <a:xfrm>
            <a:off x="457200" y="1125000"/>
            <a:ext cx="8229600" cy="50007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Veřejné mínění odmítá některé dřívější představy o DN, zejména nevnímají DN jako ojedinělý jev, který se týká sociálně slabé části populace.  (detabuizace tématu v posledních letech, vyšší informovanost  široké veřejnosti).</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Pojetí DN podle společného obydlí, které respondenti považují za klíčové sdílení domácnosti, ne příbuzenský vztah. Respondenti také nezužují existenci DN pouze na partnerský vztah.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Limity, které pociťují lidé při možnostech pomoci obětem násilí kvůli obtížné rozpoznatelnosti domácího násilí od jiných domácích potyček. Hodnocení situací, zda se podle respondentů jedná o DN či nikoliv (viz tabulka str. 58)</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Délka trvání násilí ve vztahu (viz tabulka str. 75)  násilí obvykle delší než 3 roky do roka 25%, 1-3 roky 25%, více než 3 roky 45%</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Stupňování násilí potvrzuje 35,5% obětí</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Přítomnost dětí u projevů DN je více než 50% případů. Pojetí mezi experty (kvalitativní část výzkumu) a pasivní role dětí. „Děti v pohybu“ – snížená možnost dohledu OSPO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Kvantitativní část – výzkum veřejného mínění</a:t>
            </a:r>
            <a:endParaRPr b="0" lang="en-US" sz="28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Shrnutí výzkumu mínění široké veřejnosti ukazuje, že odmítnutí některých mýtů o DN.  Veřejnost je si vědoma toho, že se nejedná o ojedinělý jev, ví, že se odehrává napříč společenskými vrstvami a že má významný vliv na děti žijící v domácnosti. Veřejné mínění také odmítá představu o DN jako o soukromém problému zúčastněných a považuje za legitimní do zásah zvenčí. Zásah zvenčí, který představuje širší rodina, státní instituce nebo odborná veřejnosti, je vnímán jako důležitý prvek pomoci ohroženým osobám.  Současně však vnímá limity v pomoci z důvodu obtížné rozpoznatelnosti DN od jiných konfliktů v rodině.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Kvalitativní část – pojetí DN mezi experty</a:t>
            </a:r>
            <a:endParaRPr b="0" lang="en-US" sz="2800" spc="-1" strike="noStrike">
              <a:solidFill>
                <a:srgbClr val="000000"/>
              </a:solidFill>
              <a:latin typeface="Calibri"/>
            </a:endParaRPr>
          </a:p>
        </p:txBody>
      </p:sp>
      <p:sp>
        <p:nvSpPr>
          <p:cNvPr id="47" name=""/>
          <p:cNvSpPr txBox="1"/>
          <p:nvPr/>
        </p:nvSpPr>
        <p:spPr>
          <a:xfrm>
            <a:off x="457200" y="1125000"/>
            <a:ext cx="8229600" cy="5000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Selhání osob ohrožených v průběhu řešení: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 ekonomická nerovnost jako limit řešení a to nejen u partnerského násilí , ale také u násilí páchaného na seniorech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Zajištění krizového i následného bydlení je těžko dosažitelné, tvoří významný limi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Opakovaná stigmatizace – opakující se procedury a délka trvání řízení</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Osoby blízké jako cílová skupina pomáhajících včetně IC. Aktéři výzkumu vnímají aktivizaci blízkých osob jako klíčový předpoklad budoucí intervence. Propojení pomoci je vhodné zaměřit na osoby blízké, ty, které mohou pomoci.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Kvalitativní část – pojetí DN mezi experty</a:t>
            </a:r>
            <a:endParaRPr b="0" lang="en-US" sz="2800" spc="-1" strike="noStrike">
              <a:solidFill>
                <a:srgbClr val="000000"/>
              </a:solidFill>
              <a:latin typeface="Calibri"/>
            </a:endParaRPr>
          </a:p>
        </p:txBody>
      </p:sp>
      <p:sp>
        <p:nvSpPr>
          <p:cNvPr id="49" name=""/>
          <p:cNvSpPr txBox="1"/>
          <p:nvPr/>
        </p:nvSpPr>
        <p:spPr>
          <a:xfrm>
            <a:off x="468360" y="1483920"/>
            <a:ext cx="8229600" cy="5002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Mezigenerační násilí – neochota seniorů se svěřovat. Nejčastější místo je lékař, který má důvěru a vysoký status. Limitem je nízké proškolení lékařů.</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Osoby násilné jsou méně tematizovány, ale je výstupem aktérů výzkumu, že rozlišují více kategorií DN a vidí možnost působit a ovlivňovat vztahové rámce v případech méně závažného násilí (viz str. 160). Aktéři výzkumu také poukazují na absenci práce s NO a na to, že systém se orientuje výrazně na pomoc oběti a původce násilí trestá (viz str. 17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Kvalitativní část </a:t>
            </a:r>
            <a:br>
              <a:rPr sz="2800"/>
            </a:br>
            <a:r>
              <a:rPr b="0" lang="cs-CZ" sz="2800" spc="-1" strike="noStrike">
                <a:solidFill>
                  <a:srgbClr val="000000"/>
                </a:solidFill>
                <a:latin typeface="Calibri"/>
              </a:rPr>
              <a:t> výpovědi respondentů z řad bývalých klientů IC  jako téma navazující na pojetí mezi odborníky:</a:t>
            </a:r>
            <a:br>
              <a:rPr sz="2800"/>
            </a:br>
            <a:endParaRPr b="0" lang="en-US" sz="2800" spc="-1" strike="noStrike">
              <a:solidFill>
                <a:srgbClr val="000000"/>
              </a:solidFill>
              <a:latin typeface="Calibri"/>
            </a:endParaRPr>
          </a:p>
        </p:txBody>
      </p:sp>
      <p:sp>
        <p:nvSpPr>
          <p:cNvPr id="51" name=""/>
          <p:cNvSpPr txBox="1"/>
          <p:nvPr/>
        </p:nvSpPr>
        <p:spPr>
          <a:xfrm>
            <a:off x="468360" y="1483920"/>
            <a:ext cx="8229600" cy="5002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Rizikové faktory osob ohrožených:</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Závislostní chování</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Orientace na druhé – zaměření na hodnocení druhých, význam názorů druhých lidí oproti názoru svému (viz str. 196)</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Bod zlomu – vedoucí k začátku řešení D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Důsledky bodu zlomu – dlouhodobé ovlivnění života násilí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Kvalitativní část </a:t>
            </a:r>
            <a:br>
              <a:rPr sz="2800"/>
            </a:br>
            <a:r>
              <a:rPr b="0" lang="cs-CZ" sz="2800" spc="-1" strike="noStrike">
                <a:solidFill>
                  <a:srgbClr val="000000"/>
                </a:solidFill>
                <a:latin typeface="Calibri"/>
              </a:rPr>
              <a:t> výpovědi respondentů z řad bývalých klientů IC  jako téma navazující na pojetí mezi odborníky:</a:t>
            </a:r>
            <a:br>
              <a:rPr sz="2800"/>
            </a:br>
            <a:endParaRPr b="0" lang="en-US" sz="2800" spc="-1" strike="noStrike">
              <a:solidFill>
                <a:srgbClr val="000000"/>
              </a:solidFill>
              <a:latin typeface="Calibri"/>
            </a:endParaRPr>
          </a:p>
        </p:txBody>
      </p:sp>
      <p:sp>
        <p:nvSpPr>
          <p:cNvPr id="53" name=""/>
          <p:cNvSpPr txBox="1"/>
          <p:nvPr/>
        </p:nvSpPr>
        <p:spPr>
          <a:xfrm>
            <a:off x="468360" y="1483920"/>
            <a:ext cx="8229600" cy="5002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DN ovlivňuje život ohrožených osob na velmi dlouhou dobu v mnoha oblastech života.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Institucionální bariéry. Oproti předchozím studiím se projevil lepší přístup jednotlivých státních úředníků i pomáhajících profesionálů.  Přesto jsou zaznamenány situace, kdy pracovníci svým přístupem OO od řešení odrazují.  Ukazuje se potřeba odborných pracovníků, kteří se nejen vyznají v problematice DN, ale jsou také připraveni přistupovat k OO individuálně a citlivě ke každému případu zvlášť.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3T18:18:04Z</dcterms:created>
  <dc:creator>levova</dc:creator>
  <dc:description/>
  <dc:language>en-US</dc:language>
  <cp:lastModifiedBy>Uživatel systému Windows</cp:lastModifiedBy>
  <dcterms:modified xsi:type="dcterms:W3CDTF">2017-12-07T11:09:07Z</dcterms:modified>
  <cp:revision>119</cp:revision>
  <dc:subject/>
  <dc:title>Snímek 1</dc:title>
</cp:coreProperties>
</file>